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5.jpeg" ContentType="image/jpeg"/>
  <Override PartName="/ppt/media/image9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E0F9-4E23-4FE7-B510-85C223ABD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5A89-D3DB-4575-8F35-5F6A85DC4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0A84-4FCE-4978-804F-76CC1AB36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A49C-A217-4864-ADB2-7B9D9BF52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7910F-57EA-413F-A212-CD762E42C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01BAC-62EE-4F5A-BBA2-F39BC42DC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D7B34-A725-4D2A-9317-62948D0F8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9D350-E422-48F2-9C2A-08418B7F7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FAA94-4A95-49A0-BF4B-8079C5CDF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E19F5-F9B5-4ED3-B2AE-E5308917A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06C19-F62C-45B4-B56B-1EB95D33D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4DAF-1553-4AFC-BD67-F1AE5B502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6A06B-1A7A-4210-BACE-09171D61F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26455-B3FE-4AF6-AA26-EE69D8F63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3DCD1-6046-4E91-8B1F-CDFE46C85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E8367-C443-4C12-92D5-EF17B050D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11372-03A5-49D1-A46B-9E3C24C0E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0BE8-EC7D-479C-9375-5CD8C2BB4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8080-8736-499E-BCF7-45105C3BC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7E93-3165-40B7-989D-4DF55B673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F84A-F7A8-4DC8-89FB-1AB15BAF6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23FB-8006-4809-8ECC-A55070CF8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72A1-992D-4F7C-8450-5C1C44D92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40C9-2DB0-44A7-8131-1F56A772B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193D9-CBA8-4EA4-ABD8-41FD0FA5D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0841C-43B3-433B-ACB6-AFA5C78BB4A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38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3.xml"/><Relationship Id="rId12" Type="http://schemas.openxmlformats.org/officeDocument/2006/relationships/slide" Target="slide14.xml"/><Relationship Id="rId13" Type="http://schemas.openxmlformats.org/officeDocument/2006/relationships/slide" Target="slide15.xml"/><Relationship Id="rId14" Type="http://schemas.openxmlformats.org/officeDocument/2006/relationships/slide" Target="slide16.xml"/><Relationship Id="rId15" Type="http://schemas.openxmlformats.org/officeDocument/2006/relationships/slide" Target="slide17.xml"/><Relationship Id="rId16" Type="http://schemas.openxmlformats.org/officeDocument/2006/relationships/slide" Target="slide18.xml"/><Relationship Id="rId17" Type="http://schemas.openxmlformats.org/officeDocument/2006/relationships/slide" Target="slide19.xml"/><Relationship Id="rId18" Type="http://schemas.openxmlformats.org/officeDocument/2006/relationships/slide" Target="slide20.xml"/><Relationship Id="rId19" Type="http://schemas.openxmlformats.org/officeDocument/2006/relationships/slide" Target="slide21.xml"/><Relationship Id="rId20" Type="http://schemas.openxmlformats.org/officeDocument/2006/relationships/slide" Target="slide22.xml"/><Relationship Id="rId21" Type="http://schemas.openxmlformats.org/officeDocument/2006/relationships/slide" Target="slide44.xml"/><Relationship Id="rId22" Type="http://schemas.openxmlformats.org/officeDocument/2006/relationships/slide" Target="slide46.xml"/><Relationship Id="rId23" Type="http://schemas.openxmlformats.org/officeDocument/2006/relationships/slide" Target="slide48.xml"/><Relationship Id="rId24" Type="http://schemas.openxmlformats.org/officeDocument/2006/relationships/slide" Target="slide50.xml"/><Relationship Id="rId25" Type="http://schemas.openxmlformats.org/officeDocument/2006/relationships/slide" Target=""/><Relationship Id="rId26" Type="http://schemas.openxmlformats.org/officeDocument/2006/relationships/slide" Target="slide52.xml"/><Relationship Id="rId2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40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image" Target="../media/image5.jpe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WordArt 3"/>
          <p:cNvSpPr txBox="1"/>
          <p:nvPr/>
        </p:nvSpPr>
        <p:spPr>
          <a:xfrm>
            <a:off x="1828800" y="2362320"/>
            <a:ext cx="5486400" cy="213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JEOPARDY</a:t>
            </a:r>
            <a:endParaRPr b="0" lang="en-US" sz="9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"/>
              </a:rPr>
              <a:t>Frau Hart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80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ts you in ....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" dur="2000" fill="hold"/>
                                        <p:tgtEl>
                                          <p:spTgt spid="16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4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ut this information into a sentence: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eutschland 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 3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352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ut this information into a sentence: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it dem Bus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4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ut this information into a sentence: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Karl und ich/ Moped/ Liechtenstein</a:t>
            </a:r>
            <a:br>
              <a:rPr sz="4400"/>
            </a:b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5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3" name="Rectangle 4" descr=""/>
          <p:cNvPicPr/>
          <p:nvPr/>
        </p:nvPicPr>
        <p:blipFill>
          <a:blip r:embed="rId2"/>
          <a:stretch/>
        </p:blipFill>
        <p:spPr>
          <a:xfrm>
            <a:off x="2298600" y="2670120"/>
            <a:ext cx="4845240" cy="11588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ell:  greeting/goodbye/ and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ormal or informal: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uten Tag  </a:t>
            </a:r>
            <a:br>
              <a:rPr sz="4400"/>
            </a:b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352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ell:  greeting/goodbye/ and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ormal or informal: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schau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2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f Herr Schultz is saying good-bye to you, what would he say?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3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335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f your grandma is saying hello to Herr Doktor Pladus at 7:00 p.m., what would she say?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4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err Doktor Pladus is saying good-bye to his wife at 9:00 a.m.  What does he say?  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5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Rectangle 2"/>
          <p:cNvSpPr/>
          <p:nvPr/>
        </p:nvSpPr>
        <p:spPr>
          <a:xfrm>
            <a:off x="609480" y="2590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as ist 13 auf Deutsch?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as ist 11 auf Deutsch?  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2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3"/>
          <p:cNvSpPr/>
          <p:nvPr/>
        </p:nvSpPr>
        <p:spPr>
          <a:xfrm>
            <a:off x="0" y="0"/>
            <a:ext cx="1523880" cy="1219320"/>
          </a:xfrm>
          <a:prstGeom prst="rect">
            <a:avLst/>
          </a:prstGeom>
          <a:solidFill>
            <a:srgbClr val="86d1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24"/>
          <p:cNvSpPr/>
          <p:nvPr/>
        </p:nvSpPr>
        <p:spPr>
          <a:xfrm>
            <a:off x="1981080" y="0"/>
            <a:ext cx="1524240" cy="1219320"/>
          </a:xfrm>
          <a:prstGeom prst="rect">
            <a:avLst/>
          </a:prstGeom>
          <a:solidFill>
            <a:srgbClr val="86d1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25"/>
          <p:cNvSpPr/>
          <p:nvPr/>
        </p:nvSpPr>
        <p:spPr>
          <a:xfrm>
            <a:off x="3886200" y="0"/>
            <a:ext cx="1523880" cy="1219320"/>
          </a:xfrm>
          <a:prstGeom prst="rect">
            <a:avLst/>
          </a:prstGeom>
          <a:solidFill>
            <a:srgbClr val="86d1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26"/>
          <p:cNvSpPr/>
          <p:nvPr/>
        </p:nvSpPr>
        <p:spPr>
          <a:xfrm>
            <a:off x="5867280" y="0"/>
            <a:ext cx="1524240" cy="1219320"/>
          </a:xfrm>
          <a:prstGeom prst="rect">
            <a:avLst/>
          </a:prstGeom>
          <a:solidFill>
            <a:srgbClr val="86d1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27"/>
          <p:cNvSpPr/>
          <p:nvPr/>
        </p:nvSpPr>
        <p:spPr>
          <a:xfrm>
            <a:off x="0" y="1447920"/>
            <a:ext cx="152388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28"/>
          <p:cNvSpPr/>
          <p:nvPr/>
        </p:nvSpPr>
        <p:spPr>
          <a:xfrm>
            <a:off x="1981080" y="1447920"/>
            <a:ext cx="152424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29"/>
          <p:cNvSpPr/>
          <p:nvPr/>
        </p:nvSpPr>
        <p:spPr>
          <a:xfrm>
            <a:off x="3886200" y="1447920"/>
            <a:ext cx="152388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30"/>
          <p:cNvSpPr/>
          <p:nvPr/>
        </p:nvSpPr>
        <p:spPr>
          <a:xfrm>
            <a:off x="5867280" y="1447920"/>
            <a:ext cx="152424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31"/>
          <p:cNvSpPr/>
          <p:nvPr/>
        </p:nvSpPr>
        <p:spPr>
          <a:xfrm>
            <a:off x="0" y="2514600"/>
            <a:ext cx="152388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32"/>
          <p:cNvSpPr/>
          <p:nvPr/>
        </p:nvSpPr>
        <p:spPr>
          <a:xfrm>
            <a:off x="1981080" y="2514600"/>
            <a:ext cx="152424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33"/>
          <p:cNvSpPr/>
          <p:nvPr/>
        </p:nvSpPr>
        <p:spPr>
          <a:xfrm>
            <a:off x="3886200" y="2514600"/>
            <a:ext cx="152388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34"/>
          <p:cNvSpPr/>
          <p:nvPr/>
        </p:nvSpPr>
        <p:spPr>
          <a:xfrm>
            <a:off x="5867280" y="2514600"/>
            <a:ext cx="152424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35"/>
          <p:cNvSpPr/>
          <p:nvPr/>
        </p:nvSpPr>
        <p:spPr>
          <a:xfrm>
            <a:off x="0" y="3581280"/>
            <a:ext cx="1523880" cy="8384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36"/>
          <p:cNvSpPr/>
          <p:nvPr/>
        </p:nvSpPr>
        <p:spPr>
          <a:xfrm>
            <a:off x="1981080" y="3581280"/>
            <a:ext cx="1524240" cy="8384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37"/>
          <p:cNvSpPr/>
          <p:nvPr/>
        </p:nvSpPr>
        <p:spPr>
          <a:xfrm>
            <a:off x="3886200" y="3581280"/>
            <a:ext cx="1523880" cy="8384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38"/>
          <p:cNvSpPr/>
          <p:nvPr/>
        </p:nvSpPr>
        <p:spPr>
          <a:xfrm>
            <a:off x="5867280" y="3581280"/>
            <a:ext cx="1524240" cy="8384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Rectangle 39"/>
          <p:cNvSpPr/>
          <p:nvPr/>
        </p:nvSpPr>
        <p:spPr>
          <a:xfrm>
            <a:off x="0" y="4648320"/>
            <a:ext cx="152388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Rectangle 40"/>
          <p:cNvSpPr/>
          <p:nvPr/>
        </p:nvSpPr>
        <p:spPr>
          <a:xfrm>
            <a:off x="1981080" y="4648320"/>
            <a:ext cx="152424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41"/>
          <p:cNvSpPr/>
          <p:nvPr/>
        </p:nvSpPr>
        <p:spPr>
          <a:xfrm>
            <a:off x="3886200" y="4648320"/>
            <a:ext cx="152388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42"/>
          <p:cNvSpPr/>
          <p:nvPr/>
        </p:nvSpPr>
        <p:spPr>
          <a:xfrm>
            <a:off x="5867280" y="4648320"/>
            <a:ext cx="152424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43"/>
          <p:cNvSpPr/>
          <p:nvPr/>
        </p:nvSpPr>
        <p:spPr>
          <a:xfrm>
            <a:off x="0" y="5715000"/>
            <a:ext cx="152388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ectangle 44"/>
          <p:cNvSpPr/>
          <p:nvPr/>
        </p:nvSpPr>
        <p:spPr>
          <a:xfrm>
            <a:off x="1981080" y="5715000"/>
            <a:ext cx="152424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45"/>
          <p:cNvSpPr/>
          <p:nvPr/>
        </p:nvSpPr>
        <p:spPr>
          <a:xfrm>
            <a:off x="3886200" y="5715000"/>
            <a:ext cx="152388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Rectangle 46"/>
          <p:cNvSpPr/>
          <p:nvPr/>
        </p:nvSpPr>
        <p:spPr>
          <a:xfrm>
            <a:off x="5867280" y="5715000"/>
            <a:ext cx="152424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47"/>
          <p:cNvSpPr/>
          <p:nvPr/>
        </p:nvSpPr>
        <p:spPr>
          <a:xfrm>
            <a:off x="0" y="3049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howcard Gothic"/>
              </a:rPr>
              <a:t>Schu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60"/>
          <p:cNvSpPr/>
          <p:nvPr/>
        </p:nvSpPr>
        <p:spPr>
          <a:xfrm>
            <a:off x="152280" y="167652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62"/>
          <p:cNvSpPr/>
          <p:nvPr/>
        </p:nvSpPr>
        <p:spPr>
          <a:xfrm>
            <a:off x="76320" y="160020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1" action="ppaction://hlinksldjump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63"/>
          <p:cNvSpPr/>
          <p:nvPr/>
        </p:nvSpPr>
        <p:spPr>
          <a:xfrm>
            <a:off x="152280" y="266688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2" action="ppaction://hlinksldjump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64"/>
          <p:cNvSpPr/>
          <p:nvPr/>
        </p:nvSpPr>
        <p:spPr>
          <a:xfrm>
            <a:off x="152280" y="373392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3" action="ppaction://hlinksldjump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65"/>
          <p:cNvSpPr/>
          <p:nvPr/>
        </p:nvSpPr>
        <p:spPr>
          <a:xfrm>
            <a:off x="76320" y="480060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4" action="ppaction://hlinksldjump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66"/>
          <p:cNvSpPr/>
          <p:nvPr/>
        </p:nvSpPr>
        <p:spPr>
          <a:xfrm>
            <a:off x="76320" y="586728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5" action="ppaction://hlinksldjump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67"/>
          <p:cNvSpPr/>
          <p:nvPr/>
        </p:nvSpPr>
        <p:spPr>
          <a:xfrm>
            <a:off x="1905120" y="3049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howcard Gothic"/>
              </a:rPr>
              <a:t>Alles über mi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68"/>
          <p:cNvSpPr/>
          <p:nvPr/>
        </p:nvSpPr>
        <p:spPr>
          <a:xfrm>
            <a:off x="2057400" y="160020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6" action="ppaction://hlinksldjump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69"/>
          <p:cNvSpPr/>
          <p:nvPr/>
        </p:nvSpPr>
        <p:spPr>
          <a:xfrm>
            <a:off x="2133720" y="266688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7" action="ppaction://hlinksldjump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70"/>
          <p:cNvSpPr/>
          <p:nvPr/>
        </p:nvSpPr>
        <p:spPr>
          <a:xfrm>
            <a:off x="2133720" y="373392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8" action="ppaction://hlinksldjump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71"/>
          <p:cNvSpPr/>
          <p:nvPr/>
        </p:nvSpPr>
        <p:spPr>
          <a:xfrm>
            <a:off x="2133720" y="480060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9" action="ppaction://hlinksldjump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72"/>
          <p:cNvSpPr/>
          <p:nvPr/>
        </p:nvSpPr>
        <p:spPr>
          <a:xfrm>
            <a:off x="2133720" y="586728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10" action="ppaction://hlinksldjump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73"/>
          <p:cNvSpPr/>
          <p:nvPr/>
        </p:nvSpPr>
        <p:spPr>
          <a:xfrm>
            <a:off x="3809880" y="0"/>
            <a:ext cx="167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howcard Gothic"/>
              </a:rPr>
              <a:t>Greetings/ goodbyes/ formal or inform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74"/>
          <p:cNvSpPr/>
          <p:nvPr/>
        </p:nvSpPr>
        <p:spPr>
          <a:xfrm>
            <a:off x="4038480" y="160020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11" action="ppaction://hlinksldjump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75"/>
          <p:cNvSpPr/>
          <p:nvPr/>
        </p:nvSpPr>
        <p:spPr>
          <a:xfrm>
            <a:off x="4038480" y="266688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12" action="ppaction://hlinksldjump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76"/>
          <p:cNvSpPr/>
          <p:nvPr/>
        </p:nvSpPr>
        <p:spPr>
          <a:xfrm>
            <a:off x="4038480" y="373392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13" action="ppaction://hlinksldjump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77"/>
          <p:cNvSpPr/>
          <p:nvPr/>
        </p:nvSpPr>
        <p:spPr>
          <a:xfrm>
            <a:off x="3962520" y="480060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14" action="ppaction://hlinksldjump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78"/>
          <p:cNvSpPr/>
          <p:nvPr/>
        </p:nvSpPr>
        <p:spPr>
          <a:xfrm>
            <a:off x="3962520" y="586728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15" action="ppaction://hlinksldjump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79"/>
          <p:cNvSpPr/>
          <p:nvPr/>
        </p:nvSpPr>
        <p:spPr>
          <a:xfrm>
            <a:off x="5791320" y="76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howcard Gothic"/>
              </a:rPr>
              <a:t>Num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80"/>
          <p:cNvSpPr/>
          <p:nvPr/>
        </p:nvSpPr>
        <p:spPr>
          <a:xfrm>
            <a:off x="6019920" y="160020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16" action="ppaction://hlinksldjump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81"/>
          <p:cNvSpPr/>
          <p:nvPr/>
        </p:nvSpPr>
        <p:spPr>
          <a:xfrm>
            <a:off x="6019920" y="266688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17" action="ppaction://hlinksldjump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82"/>
          <p:cNvSpPr/>
          <p:nvPr/>
        </p:nvSpPr>
        <p:spPr>
          <a:xfrm>
            <a:off x="6019920" y="365760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18" action="ppaction://hlinksldjump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83"/>
          <p:cNvSpPr/>
          <p:nvPr/>
        </p:nvSpPr>
        <p:spPr>
          <a:xfrm>
            <a:off x="6019920" y="480060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19" action="ppaction://hlinksldjump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84"/>
          <p:cNvSpPr/>
          <p:nvPr/>
        </p:nvSpPr>
        <p:spPr>
          <a:xfrm>
            <a:off x="6019920" y="586728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20" action="ppaction://hlinksldjump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85"/>
          <p:cNvSpPr/>
          <p:nvPr/>
        </p:nvSpPr>
        <p:spPr>
          <a:xfrm>
            <a:off x="7620120" y="-76320"/>
            <a:ext cx="1523880" cy="1219320"/>
          </a:xfrm>
          <a:prstGeom prst="rect">
            <a:avLst/>
          </a:prstGeom>
          <a:solidFill>
            <a:srgbClr val="86d1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86"/>
          <p:cNvSpPr/>
          <p:nvPr/>
        </p:nvSpPr>
        <p:spPr>
          <a:xfrm>
            <a:off x="7620120" y="1371600"/>
            <a:ext cx="152388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87"/>
          <p:cNvSpPr/>
          <p:nvPr/>
        </p:nvSpPr>
        <p:spPr>
          <a:xfrm>
            <a:off x="7620120" y="2438280"/>
            <a:ext cx="1523880" cy="8384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88"/>
          <p:cNvSpPr/>
          <p:nvPr/>
        </p:nvSpPr>
        <p:spPr>
          <a:xfrm>
            <a:off x="7620120" y="3505320"/>
            <a:ext cx="152388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89"/>
          <p:cNvSpPr/>
          <p:nvPr/>
        </p:nvSpPr>
        <p:spPr>
          <a:xfrm>
            <a:off x="7620120" y="4572000"/>
            <a:ext cx="152388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90"/>
          <p:cNvSpPr/>
          <p:nvPr/>
        </p:nvSpPr>
        <p:spPr>
          <a:xfrm>
            <a:off x="7620120" y="5638680"/>
            <a:ext cx="1523880" cy="8384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91"/>
          <p:cNvSpPr/>
          <p:nvPr/>
        </p:nvSpPr>
        <p:spPr>
          <a:xfrm>
            <a:off x="7543800" y="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howcard Gothic"/>
              </a:rPr>
              <a:t>Questions or answ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92"/>
          <p:cNvSpPr/>
          <p:nvPr/>
        </p:nvSpPr>
        <p:spPr>
          <a:xfrm>
            <a:off x="7772400" y="152388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21" action="ppaction://hlinksldjump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93"/>
          <p:cNvSpPr/>
          <p:nvPr/>
        </p:nvSpPr>
        <p:spPr>
          <a:xfrm>
            <a:off x="7772400" y="259092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22" action="ppaction://hlinksldjump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94"/>
          <p:cNvSpPr/>
          <p:nvPr/>
        </p:nvSpPr>
        <p:spPr>
          <a:xfrm>
            <a:off x="7772400" y="358128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23" action="ppaction://hlinksldjump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95"/>
          <p:cNvSpPr/>
          <p:nvPr/>
        </p:nvSpPr>
        <p:spPr>
          <a:xfrm>
            <a:off x="7772400" y="472428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24" action="ppaction://hlinksldjump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96">
            <a:hlinkClick r:id="rId25" action="ppaction://hlinksldjump"/>
          </p:cNvPr>
          <p:cNvSpPr/>
          <p:nvPr/>
        </p:nvSpPr>
        <p:spPr>
          <a:xfrm>
            <a:off x="7772400" y="579132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26" action="ppaction://hlinksldjump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as ist zwei plus sechzehn?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3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as ist zwanzig minus drei?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4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48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as ist acht plus neun minus eins?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5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8088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ch komme mit dem Bus.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u kommst zu Fuss.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2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ie kommt mit dem Moped.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3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352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ax kommt mit dem Moped und mit dem Auto. 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4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ara und Christina kommen mit der U-Bahn.  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5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ch heisse Simon. or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ch bin Simon.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ch bin vierzehn (Jahre alt).  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2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 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6" name="Group 23"/>
          <p:cNvGrpSpPr/>
          <p:nvPr/>
        </p:nvGrpSpPr>
        <p:grpSpPr>
          <a:xfrm>
            <a:off x="2971800" y="609480"/>
            <a:ext cx="1290600" cy="2361960"/>
            <a:chOff x="2971800" y="609480"/>
            <a:chExt cx="1290600" cy="2361960"/>
          </a:xfrm>
        </p:grpSpPr>
        <p:grpSp>
          <p:nvGrpSpPr>
            <p:cNvPr id="227" name="Group 5"/>
            <p:cNvGrpSpPr/>
            <p:nvPr/>
          </p:nvGrpSpPr>
          <p:grpSpPr>
            <a:xfrm>
              <a:off x="2971800" y="609480"/>
              <a:ext cx="1290600" cy="2361960"/>
              <a:chOff x="2971800" y="609480"/>
              <a:chExt cx="1290600" cy="2361960"/>
            </a:xfrm>
          </p:grpSpPr>
          <p:sp>
            <p:nvSpPr>
              <p:cNvPr id="228" name="Freeform 8"/>
              <p:cNvSpPr/>
              <p:nvPr/>
            </p:nvSpPr>
            <p:spPr>
              <a:xfrm>
                <a:off x="3495600" y="1132560"/>
                <a:ext cx="766800" cy="203040"/>
              </a:xfrm>
              <a:custGeom>
                <a:avLst/>
                <a:gdLst>
                  <a:gd name="textAreaLeft" fmla="*/ 0 w 766800"/>
                  <a:gd name="textAreaRight" fmla="*/ 767160 w 766800"/>
                  <a:gd name="textAreaTop" fmla="*/ 0 h 203040"/>
                  <a:gd name="textAreaBottom" fmla="*/ 203400 h 203040"/>
                </a:gdLst>
                <a:ahLst/>
                <a:rect l="textAreaLeft" t="textAreaTop" r="textAreaRight" b="textAreaBottom"/>
                <a:pathLst>
                  <a:path w="1482" h="262">
                    <a:moveTo>
                      <a:pt x="0" y="167"/>
                    </a:moveTo>
                    <a:lnTo>
                      <a:pt x="124" y="124"/>
                    </a:lnTo>
                    <a:lnTo>
                      <a:pt x="389" y="105"/>
                    </a:lnTo>
                    <a:lnTo>
                      <a:pt x="609" y="86"/>
                    </a:lnTo>
                    <a:lnTo>
                      <a:pt x="854" y="48"/>
                    </a:lnTo>
                    <a:lnTo>
                      <a:pt x="1036" y="42"/>
                    </a:lnTo>
                    <a:lnTo>
                      <a:pt x="1276" y="15"/>
                    </a:lnTo>
                    <a:lnTo>
                      <a:pt x="1478" y="0"/>
                    </a:lnTo>
                    <a:lnTo>
                      <a:pt x="1482" y="29"/>
                    </a:lnTo>
                    <a:lnTo>
                      <a:pt x="1434" y="67"/>
                    </a:lnTo>
                    <a:lnTo>
                      <a:pt x="1252" y="67"/>
                    </a:lnTo>
                    <a:lnTo>
                      <a:pt x="1267" y="114"/>
                    </a:lnTo>
                    <a:lnTo>
                      <a:pt x="1242" y="171"/>
                    </a:lnTo>
                    <a:lnTo>
                      <a:pt x="1194" y="209"/>
                    </a:lnTo>
                    <a:lnTo>
                      <a:pt x="1118" y="209"/>
                    </a:lnTo>
                    <a:lnTo>
                      <a:pt x="1055" y="190"/>
                    </a:lnTo>
                    <a:lnTo>
                      <a:pt x="1031" y="129"/>
                    </a:lnTo>
                    <a:lnTo>
                      <a:pt x="1031" y="91"/>
                    </a:lnTo>
                    <a:lnTo>
                      <a:pt x="859" y="95"/>
                    </a:lnTo>
                    <a:lnTo>
                      <a:pt x="787" y="114"/>
                    </a:lnTo>
                    <a:lnTo>
                      <a:pt x="642" y="152"/>
                    </a:lnTo>
                    <a:lnTo>
                      <a:pt x="436" y="177"/>
                    </a:lnTo>
                    <a:lnTo>
                      <a:pt x="263" y="181"/>
                    </a:lnTo>
                    <a:lnTo>
                      <a:pt x="149" y="205"/>
                    </a:lnTo>
                    <a:lnTo>
                      <a:pt x="44" y="262"/>
                    </a:lnTo>
                    <a:lnTo>
                      <a:pt x="0" y="205"/>
                    </a:lnTo>
                    <a:lnTo>
                      <a:pt x="29" y="152"/>
                    </a:lnTo>
                    <a:lnTo>
                      <a:pt x="53" y="139"/>
                    </a:lnTo>
                    <a:lnTo>
                      <a:pt x="0" y="1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Rectangle 9"/>
              <p:cNvSpPr/>
              <p:nvPr/>
            </p:nvSpPr>
            <p:spPr>
              <a:xfrm>
                <a:off x="3914640" y="980280"/>
                <a:ext cx="347400" cy="372240"/>
              </a:xfrm>
              <a:prstGeom prst="rect">
                <a:avLst/>
              </a:prstGeom>
              <a:solidFill>
                <a:srgbClr val="000099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30" name="Group 10"/>
              <p:cNvGrpSpPr/>
              <p:nvPr/>
            </p:nvGrpSpPr>
            <p:grpSpPr>
              <a:xfrm>
                <a:off x="2971800" y="609480"/>
                <a:ext cx="1042200" cy="2361960"/>
                <a:chOff x="2971800" y="609480"/>
                <a:chExt cx="1042200" cy="2361960"/>
              </a:xfrm>
            </p:grpSpPr>
            <p:sp>
              <p:nvSpPr>
                <p:cNvPr id="231" name="Freeform 11"/>
                <p:cNvSpPr/>
                <p:nvPr/>
              </p:nvSpPr>
              <p:spPr>
                <a:xfrm>
                  <a:off x="3330720" y="609480"/>
                  <a:ext cx="374400" cy="546120"/>
                </a:xfrm>
                <a:custGeom>
                  <a:avLst/>
                  <a:gdLst>
                    <a:gd name="textAreaLeft" fmla="*/ 0 w 374400"/>
                    <a:gd name="textAreaRight" fmla="*/ 374760 w 374400"/>
                    <a:gd name="textAreaTop" fmla="*/ 0 h 546120"/>
                    <a:gd name="textAreaBottom" fmla="*/ 546480 h 546120"/>
                  </a:gdLst>
                  <a:ahLst/>
                  <a:rect l="textAreaLeft" t="textAreaTop" r="textAreaRight" b="textAreaBottom"/>
                  <a:pathLst>
                    <a:path w="725" h="702">
                      <a:moveTo>
                        <a:pt x="150" y="32"/>
                      </a:moveTo>
                      <a:lnTo>
                        <a:pt x="230" y="0"/>
                      </a:lnTo>
                      <a:lnTo>
                        <a:pt x="289" y="23"/>
                      </a:lnTo>
                      <a:lnTo>
                        <a:pt x="350" y="99"/>
                      </a:lnTo>
                      <a:lnTo>
                        <a:pt x="390" y="209"/>
                      </a:lnTo>
                      <a:lnTo>
                        <a:pt x="394" y="287"/>
                      </a:lnTo>
                      <a:lnTo>
                        <a:pt x="398" y="386"/>
                      </a:lnTo>
                      <a:lnTo>
                        <a:pt x="657" y="382"/>
                      </a:lnTo>
                      <a:lnTo>
                        <a:pt x="725" y="396"/>
                      </a:lnTo>
                      <a:lnTo>
                        <a:pt x="716" y="443"/>
                      </a:lnTo>
                      <a:lnTo>
                        <a:pt x="577" y="424"/>
                      </a:lnTo>
                      <a:lnTo>
                        <a:pt x="394" y="453"/>
                      </a:lnTo>
                      <a:lnTo>
                        <a:pt x="356" y="553"/>
                      </a:lnTo>
                      <a:lnTo>
                        <a:pt x="303" y="639"/>
                      </a:lnTo>
                      <a:lnTo>
                        <a:pt x="240" y="673"/>
                      </a:lnTo>
                      <a:lnTo>
                        <a:pt x="173" y="702"/>
                      </a:lnTo>
                      <a:lnTo>
                        <a:pt x="125" y="683"/>
                      </a:lnTo>
                      <a:lnTo>
                        <a:pt x="57" y="606"/>
                      </a:lnTo>
                      <a:lnTo>
                        <a:pt x="11" y="511"/>
                      </a:lnTo>
                      <a:lnTo>
                        <a:pt x="0" y="430"/>
                      </a:lnTo>
                      <a:lnTo>
                        <a:pt x="25" y="266"/>
                      </a:lnTo>
                      <a:lnTo>
                        <a:pt x="82" y="143"/>
                      </a:lnTo>
                      <a:lnTo>
                        <a:pt x="125" y="72"/>
                      </a:lnTo>
                      <a:lnTo>
                        <a:pt x="177" y="28"/>
                      </a:lnTo>
                      <a:lnTo>
                        <a:pt x="150" y="3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2" name="Freeform 12"/>
                <p:cNvSpPr/>
                <p:nvPr/>
              </p:nvSpPr>
              <p:spPr>
                <a:xfrm>
                  <a:off x="3255120" y="1179000"/>
                  <a:ext cx="300240" cy="934560"/>
                </a:xfrm>
                <a:custGeom>
                  <a:avLst/>
                  <a:gdLst>
                    <a:gd name="textAreaLeft" fmla="*/ 0 w 300240"/>
                    <a:gd name="textAreaRight" fmla="*/ 300600 w 300240"/>
                    <a:gd name="textAreaTop" fmla="*/ 0 h 934560"/>
                    <a:gd name="textAreaBottom" fmla="*/ 934920 h 934560"/>
                  </a:gdLst>
                  <a:ahLst/>
                  <a:rect l="textAreaLeft" t="textAreaTop" r="textAreaRight" b="textAreaBottom"/>
                  <a:pathLst>
                    <a:path w="579" h="1204">
                      <a:moveTo>
                        <a:pt x="258" y="0"/>
                      </a:moveTo>
                      <a:lnTo>
                        <a:pt x="329" y="13"/>
                      </a:lnTo>
                      <a:lnTo>
                        <a:pt x="416" y="13"/>
                      </a:lnTo>
                      <a:lnTo>
                        <a:pt x="531" y="70"/>
                      </a:lnTo>
                      <a:lnTo>
                        <a:pt x="574" y="186"/>
                      </a:lnTo>
                      <a:lnTo>
                        <a:pt x="579" y="344"/>
                      </a:lnTo>
                      <a:lnTo>
                        <a:pt x="536" y="519"/>
                      </a:lnTo>
                      <a:lnTo>
                        <a:pt x="460" y="688"/>
                      </a:lnTo>
                      <a:lnTo>
                        <a:pt x="402" y="831"/>
                      </a:lnTo>
                      <a:lnTo>
                        <a:pt x="344" y="1031"/>
                      </a:lnTo>
                      <a:lnTo>
                        <a:pt x="277" y="1151"/>
                      </a:lnTo>
                      <a:lnTo>
                        <a:pt x="192" y="1204"/>
                      </a:lnTo>
                      <a:lnTo>
                        <a:pt x="119" y="1204"/>
                      </a:lnTo>
                      <a:lnTo>
                        <a:pt x="34" y="1151"/>
                      </a:lnTo>
                      <a:lnTo>
                        <a:pt x="0" y="1074"/>
                      </a:lnTo>
                      <a:lnTo>
                        <a:pt x="0" y="949"/>
                      </a:lnTo>
                      <a:lnTo>
                        <a:pt x="47" y="787"/>
                      </a:lnTo>
                      <a:lnTo>
                        <a:pt x="86" y="563"/>
                      </a:lnTo>
                      <a:lnTo>
                        <a:pt x="100" y="285"/>
                      </a:lnTo>
                      <a:lnTo>
                        <a:pt x="76" y="76"/>
                      </a:lnTo>
                      <a:lnTo>
                        <a:pt x="148" y="4"/>
                      </a:lnTo>
                      <a:lnTo>
                        <a:pt x="25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3" name="Freeform 13"/>
                <p:cNvSpPr/>
                <p:nvPr/>
              </p:nvSpPr>
              <p:spPr>
                <a:xfrm>
                  <a:off x="2988000" y="1217520"/>
                  <a:ext cx="341640" cy="835200"/>
                </a:xfrm>
                <a:custGeom>
                  <a:avLst/>
                  <a:gdLst>
                    <a:gd name="textAreaLeft" fmla="*/ 0 w 341640"/>
                    <a:gd name="textAreaRight" fmla="*/ 342000 w 341640"/>
                    <a:gd name="textAreaTop" fmla="*/ 0 h 835200"/>
                    <a:gd name="textAreaBottom" fmla="*/ 835560 h 835200"/>
                  </a:gdLst>
                  <a:ahLst/>
                  <a:rect l="textAreaLeft" t="textAreaTop" r="textAreaRight" b="textAreaBottom"/>
                  <a:pathLst>
                    <a:path w="661" h="1076">
                      <a:moveTo>
                        <a:pt x="503" y="42"/>
                      </a:moveTo>
                      <a:lnTo>
                        <a:pt x="575" y="0"/>
                      </a:lnTo>
                      <a:lnTo>
                        <a:pt x="627" y="0"/>
                      </a:lnTo>
                      <a:lnTo>
                        <a:pt x="661" y="33"/>
                      </a:lnTo>
                      <a:lnTo>
                        <a:pt x="642" y="99"/>
                      </a:lnTo>
                      <a:lnTo>
                        <a:pt x="598" y="143"/>
                      </a:lnTo>
                      <a:lnTo>
                        <a:pt x="518" y="185"/>
                      </a:lnTo>
                      <a:lnTo>
                        <a:pt x="360" y="248"/>
                      </a:lnTo>
                      <a:lnTo>
                        <a:pt x="158" y="358"/>
                      </a:lnTo>
                      <a:lnTo>
                        <a:pt x="82" y="362"/>
                      </a:lnTo>
                      <a:lnTo>
                        <a:pt x="124" y="463"/>
                      </a:lnTo>
                      <a:lnTo>
                        <a:pt x="210" y="573"/>
                      </a:lnTo>
                      <a:lnTo>
                        <a:pt x="282" y="708"/>
                      </a:lnTo>
                      <a:lnTo>
                        <a:pt x="311" y="847"/>
                      </a:lnTo>
                      <a:lnTo>
                        <a:pt x="297" y="889"/>
                      </a:lnTo>
                      <a:lnTo>
                        <a:pt x="254" y="918"/>
                      </a:lnTo>
                      <a:lnTo>
                        <a:pt x="196" y="937"/>
                      </a:lnTo>
                      <a:lnTo>
                        <a:pt x="139" y="980"/>
                      </a:lnTo>
                      <a:lnTo>
                        <a:pt x="115" y="1024"/>
                      </a:lnTo>
                      <a:lnTo>
                        <a:pt x="101" y="1076"/>
                      </a:lnTo>
                      <a:lnTo>
                        <a:pt x="57" y="1076"/>
                      </a:lnTo>
                      <a:lnTo>
                        <a:pt x="42" y="1037"/>
                      </a:lnTo>
                      <a:lnTo>
                        <a:pt x="71" y="975"/>
                      </a:lnTo>
                      <a:lnTo>
                        <a:pt x="153" y="933"/>
                      </a:lnTo>
                      <a:lnTo>
                        <a:pt x="202" y="889"/>
                      </a:lnTo>
                      <a:lnTo>
                        <a:pt x="244" y="866"/>
                      </a:lnTo>
                      <a:lnTo>
                        <a:pt x="259" y="822"/>
                      </a:lnTo>
                      <a:lnTo>
                        <a:pt x="240" y="708"/>
                      </a:lnTo>
                      <a:lnTo>
                        <a:pt x="172" y="621"/>
                      </a:lnTo>
                      <a:lnTo>
                        <a:pt x="115" y="545"/>
                      </a:lnTo>
                      <a:lnTo>
                        <a:pt x="42" y="459"/>
                      </a:lnTo>
                      <a:lnTo>
                        <a:pt x="0" y="377"/>
                      </a:lnTo>
                      <a:lnTo>
                        <a:pt x="0" y="329"/>
                      </a:lnTo>
                      <a:lnTo>
                        <a:pt x="38" y="305"/>
                      </a:lnTo>
                      <a:lnTo>
                        <a:pt x="187" y="219"/>
                      </a:lnTo>
                      <a:lnTo>
                        <a:pt x="330" y="143"/>
                      </a:lnTo>
                      <a:lnTo>
                        <a:pt x="474" y="71"/>
                      </a:lnTo>
                      <a:lnTo>
                        <a:pt x="503" y="4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4" name="Freeform 14"/>
                <p:cNvSpPr/>
                <p:nvPr/>
              </p:nvSpPr>
              <p:spPr>
                <a:xfrm>
                  <a:off x="3322440" y="2035800"/>
                  <a:ext cx="227520" cy="904680"/>
                </a:xfrm>
                <a:custGeom>
                  <a:avLst/>
                  <a:gdLst>
                    <a:gd name="textAreaLeft" fmla="*/ 0 w 227520"/>
                    <a:gd name="textAreaRight" fmla="*/ 227880 w 227520"/>
                    <a:gd name="textAreaTop" fmla="*/ 0 h 904680"/>
                    <a:gd name="textAreaBottom" fmla="*/ 905040 h 904680"/>
                  </a:gdLst>
                  <a:ahLst/>
                  <a:rect l="textAreaLeft" t="textAreaTop" r="textAreaRight" b="textAreaBottom"/>
                  <a:pathLst>
                    <a:path w="441" h="1166">
                      <a:moveTo>
                        <a:pt x="82" y="135"/>
                      </a:moveTo>
                      <a:lnTo>
                        <a:pt x="25" y="59"/>
                      </a:lnTo>
                      <a:lnTo>
                        <a:pt x="44" y="0"/>
                      </a:lnTo>
                      <a:lnTo>
                        <a:pt x="101" y="0"/>
                      </a:lnTo>
                      <a:lnTo>
                        <a:pt x="169" y="63"/>
                      </a:lnTo>
                      <a:lnTo>
                        <a:pt x="255" y="192"/>
                      </a:lnTo>
                      <a:lnTo>
                        <a:pt x="303" y="316"/>
                      </a:lnTo>
                      <a:lnTo>
                        <a:pt x="346" y="436"/>
                      </a:lnTo>
                      <a:lnTo>
                        <a:pt x="360" y="546"/>
                      </a:lnTo>
                      <a:lnTo>
                        <a:pt x="356" y="603"/>
                      </a:lnTo>
                      <a:lnTo>
                        <a:pt x="312" y="674"/>
                      </a:lnTo>
                      <a:lnTo>
                        <a:pt x="240" y="866"/>
                      </a:lnTo>
                      <a:lnTo>
                        <a:pt x="158" y="976"/>
                      </a:lnTo>
                      <a:lnTo>
                        <a:pt x="139" y="1024"/>
                      </a:lnTo>
                      <a:lnTo>
                        <a:pt x="217" y="1033"/>
                      </a:lnTo>
                      <a:lnTo>
                        <a:pt x="316" y="1033"/>
                      </a:lnTo>
                      <a:lnTo>
                        <a:pt x="441" y="1075"/>
                      </a:lnTo>
                      <a:lnTo>
                        <a:pt x="432" y="1109"/>
                      </a:lnTo>
                      <a:lnTo>
                        <a:pt x="413" y="1147"/>
                      </a:lnTo>
                      <a:lnTo>
                        <a:pt x="375" y="1166"/>
                      </a:lnTo>
                      <a:lnTo>
                        <a:pt x="297" y="1138"/>
                      </a:lnTo>
                      <a:lnTo>
                        <a:pt x="217" y="1096"/>
                      </a:lnTo>
                      <a:lnTo>
                        <a:pt x="101" y="1090"/>
                      </a:lnTo>
                      <a:lnTo>
                        <a:pt x="30" y="1105"/>
                      </a:lnTo>
                      <a:lnTo>
                        <a:pt x="0" y="1081"/>
                      </a:lnTo>
                      <a:lnTo>
                        <a:pt x="0" y="1048"/>
                      </a:lnTo>
                      <a:lnTo>
                        <a:pt x="40" y="1009"/>
                      </a:lnTo>
                      <a:lnTo>
                        <a:pt x="101" y="947"/>
                      </a:lnTo>
                      <a:lnTo>
                        <a:pt x="211" y="789"/>
                      </a:lnTo>
                      <a:lnTo>
                        <a:pt x="259" y="651"/>
                      </a:lnTo>
                      <a:lnTo>
                        <a:pt x="274" y="516"/>
                      </a:lnTo>
                      <a:lnTo>
                        <a:pt x="270" y="445"/>
                      </a:lnTo>
                      <a:lnTo>
                        <a:pt x="231" y="316"/>
                      </a:lnTo>
                      <a:lnTo>
                        <a:pt x="131" y="177"/>
                      </a:lnTo>
                      <a:lnTo>
                        <a:pt x="59" y="105"/>
                      </a:lnTo>
                      <a:lnTo>
                        <a:pt x="82" y="13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5" name="Freeform 15"/>
                <p:cNvSpPr/>
                <p:nvPr/>
              </p:nvSpPr>
              <p:spPr>
                <a:xfrm>
                  <a:off x="2971800" y="1973520"/>
                  <a:ext cx="335160" cy="997920"/>
                </a:xfrm>
                <a:custGeom>
                  <a:avLst/>
                  <a:gdLst>
                    <a:gd name="textAreaLeft" fmla="*/ 0 w 335160"/>
                    <a:gd name="textAreaRight" fmla="*/ 335520 w 335160"/>
                    <a:gd name="textAreaTop" fmla="*/ 0 h 997920"/>
                    <a:gd name="textAreaBottom" fmla="*/ 997920 h 997920"/>
                  </a:gdLst>
                  <a:ahLst/>
                  <a:rect l="textAreaLeft" t="textAreaTop" r="textAreaRight" b="textAreaBottom"/>
                  <a:pathLst>
                    <a:path w="647" h="1286">
                      <a:moveTo>
                        <a:pt x="377" y="225"/>
                      </a:moveTo>
                      <a:lnTo>
                        <a:pt x="474" y="101"/>
                      </a:lnTo>
                      <a:lnTo>
                        <a:pt x="560" y="0"/>
                      </a:lnTo>
                      <a:lnTo>
                        <a:pt x="617" y="10"/>
                      </a:lnTo>
                      <a:lnTo>
                        <a:pt x="647" y="53"/>
                      </a:lnTo>
                      <a:lnTo>
                        <a:pt x="647" y="129"/>
                      </a:lnTo>
                      <a:lnTo>
                        <a:pt x="594" y="173"/>
                      </a:lnTo>
                      <a:lnTo>
                        <a:pt x="502" y="230"/>
                      </a:lnTo>
                      <a:lnTo>
                        <a:pt x="430" y="301"/>
                      </a:lnTo>
                      <a:lnTo>
                        <a:pt x="350" y="396"/>
                      </a:lnTo>
                      <a:lnTo>
                        <a:pt x="316" y="468"/>
                      </a:lnTo>
                      <a:lnTo>
                        <a:pt x="278" y="554"/>
                      </a:lnTo>
                      <a:lnTo>
                        <a:pt x="257" y="670"/>
                      </a:lnTo>
                      <a:lnTo>
                        <a:pt x="257" y="774"/>
                      </a:lnTo>
                      <a:lnTo>
                        <a:pt x="278" y="904"/>
                      </a:lnTo>
                      <a:lnTo>
                        <a:pt x="331" y="1029"/>
                      </a:lnTo>
                      <a:lnTo>
                        <a:pt x="373" y="1100"/>
                      </a:lnTo>
                      <a:lnTo>
                        <a:pt x="402" y="1147"/>
                      </a:lnTo>
                      <a:lnTo>
                        <a:pt x="402" y="1187"/>
                      </a:lnTo>
                      <a:lnTo>
                        <a:pt x="373" y="1200"/>
                      </a:lnTo>
                      <a:lnTo>
                        <a:pt x="306" y="1200"/>
                      </a:lnTo>
                      <a:lnTo>
                        <a:pt x="200" y="1219"/>
                      </a:lnTo>
                      <a:lnTo>
                        <a:pt x="118" y="1248"/>
                      </a:lnTo>
                      <a:lnTo>
                        <a:pt x="72" y="1286"/>
                      </a:lnTo>
                      <a:lnTo>
                        <a:pt x="28" y="1271"/>
                      </a:lnTo>
                      <a:lnTo>
                        <a:pt x="0" y="1219"/>
                      </a:lnTo>
                      <a:lnTo>
                        <a:pt x="4" y="1176"/>
                      </a:lnTo>
                      <a:lnTo>
                        <a:pt x="86" y="1143"/>
                      </a:lnTo>
                      <a:lnTo>
                        <a:pt x="215" y="1134"/>
                      </a:lnTo>
                      <a:lnTo>
                        <a:pt x="335" y="1134"/>
                      </a:lnTo>
                      <a:lnTo>
                        <a:pt x="287" y="1075"/>
                      </a:lnTo>
                      <a:lnTo>
                        <a:pt x="263" y="1004"/>
                      </a:lnTo>
                      <a:lnTo>
                        <a:pt x="230" y="904"/>
                      </a:lnTo>
                      <a:lnTo>
                        <a:pt x="192" y="799"/>
                      </a:lnTo>
                      <a:lnTo>
                        <a:pt x="192" y="674"/>
                      </a:lnTo>
                      <a:lnTo>
                        <a:pt x="200" y="554"/>
                      </a:lnTo>
                      <a:lnTo>
                        <a:pt x="244" y="445"/>
                      </a:lnTo>
                      <a:lnTo>
                        <a:pt x="320" y="301"/>
                      </a:lnTo>
                      <a:lnTo>
                        <a:pt x="377" y="22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6" name="Freeform 16"/>
                <p:cNvSpPr/>
                <p:nvPr/>
              </p:nvSpPr>
              <p:spPr>
                <a:xfrm>
                  <a:off x="3864960" y="1185120"/>
                  <a:ext cx="149040" cy="167400"/>
                </a:xfrm>
                <a:custGeom>
                  <a:avLst/>
                  <a:gdLst>
                    <a:gd name="textAreaLeft" fmla="*/ 0 w 149040"/>
                    <a:gd name="textAreaRight" fmla="*/ 149400 w 149040"/>
                    <a:gd name="textAreaTop" fmla="*/ 0 h 167400"/>
                    <a:gd name="textAreaBottom" fmla="*/ 167760 h 167400"/>
                  </a:gdLst>
                  <a:ahLst/>
                  <a:rect l="textAreaLeft" t="textAreaTop" r="textAreaRight" b="textAreaBottom"/>
                  <a:pathLst>
                    <a:path w="144" h="108">
                      <a:moveTo>
                        <a:pt x="72" y="0"/>
                      </a:moveTo>
                      <a:cubicBezTo>
                        <a:pt x="86" y="5"/>
                        <a:pt x="104" y="5"/>
                        <a:pt x="117" y="12"/>
                      </a:cubicBezTo>
                      <a:cubicBezTo>
                        <a:pt x="123" y="16"/>
                        <a:pt x="135" y="24"/>
                        <a:pt x="135" y="24"/>
                      </a:cubicBezTo>
                      <a:cubicBezTo>
                        <a:pt x="137" y="30"/>
                        <a:pt x="139" y="36"/>
                        <a:pt x="141" y="42"/>
                      </a:cubicBezTo>
                      <a:cubicBezTo>
                        <a:pt x="142" y="45"/>
                        <a:pt x="144" y="51"/>
                        <a:pt x="144" y="51"/>
                      </a:cubicBezTo>
                      <a:cubicBezTo>
                        <a:pt x="144" y="51"/>
                        <a:pt x="141" y="74"/>
                        <a:pt x="138" y="78"/>
                      </a:cubicBezTo>
                      <a:cubicBezTo>
                        <a:pt x="124" y="96"/>
                        <a:pt x="76" y="96"/>
                        <a:pt x="57" y="99"/>
                      </a:cubicBezTo>
                      <a:cubicBezTo>
                        <a:pt x="38" y="102"/>
                        <a:pt x="0" y="108"/>
                        <a:pt x="0" y="108"/>
                      </a:cubicBezTo>
                    </a:path>
                  </a:pathLst>
                </a:custGeom>
                <a:noFill/>
                <a:ln w="954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7" name="Oval 17"/>
                <p:cNvSpPr/>
                <p:nvPr/>
              </p:nvSpPr>
              <p:spPr>
                <a:xfrm>
                  <a:off x="3914640" y="1352880"/>
                  <a:ext cx="99000" cy="74520"/>
                </a:xfrm>
                <a:prstGeom prst="ellipse">
                  <a:avLst/>
                </a:prstGeom>
                <a:solidFill>
                  <a:srgbClr val="ffffff"/>
                </a:solidFill>
                <a:ln w="763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8" name="Freeform 18"/>
                <p:cNvSpPr/>
                <p:nvPr/>
              </p:nvSpPr>
              <p:spPr>
                <a:xfrm>
                  <a:off x="3908520" y="1343520"/>
                  <a:ext cx="105120" cy="97200"/>
                </a:xfrm>
                <a:custGeom>
                  <a:avLst/>
                  <a:gdLst>
                    <a:gd name="textAreaLeft" fmla="*/ 0 w 105120"/>
                    <a:gd name="textAreaRight" fmla="*/ 105480 w 105120"/>
                    <a:gd name="textAreaTop" fmla="*/ 0 h 97200"/>
                    <a:gd name="textAreaBottom" fmla="*/ 97560 h 97200"/>
                  </a:gdLst>
                  <a:ahLst/>
                  <a:rect l="textAreaLeft" t="textAreaTop" r="textAreaRight" b="textAreaBottom"/>
                  <a:pathLst>
                    <a:path w="102" h="63">
                      <a:moveTo>
                        <a:pt x="0" y="18"/>
                      </a:moveTo>
                      <a:cubicBezTo>
                        <a:pt x="7" y="39"/>
                        <a:pt x="1" y="32"/>
                        <a:pt x="15" y="42"/>
                      </a:cubicBezTo>
                      <a:cubicBezTo>
                        <a:pt x="20" y="50"/>
                        <a:pt x="21" y="53"/>
                        <a:pt x="30" y="57"/>
                      </a:cubicBezTo>
                      <a:cubicBezTo>
                        <a:pt x="36" y="60"/>
                        <a:pt x="48" y="63"/>
                        <a:pt x="48" y="63"/>
                      </a:cubicBezTo>
                      <a:cubicBezTo>
                        <a:pt x="80" y="58"/>
                        <a:pt x="70" y="57"/>
                        <a:pt x="93" y="42"/>
                      </a:cubicBezTo>
                      <a:cubicBezTo>
                        <a:pt x="102" y="16"/>
                        <a:pt x="99" y="30"/>
                        <a:pt x="99" y="0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9" name="Freeform 19"/>
                <p:cNvSpPr/>
                <p:nvPr/>
              </p:nvSpPr>
              <p:spPr>
                <a:xfrm>
                  <a:off x="3910320" y="1341720"/>
                  <a:ext cx="95040" cy="99000"/>
                </a:xfrm>
                <a:custGeom>
                  <a:avLst/>
                  <a:gdLst>
                    <a:gd name="textAreaLeft" fmla="*/ 0 w 95040"/>
                    <a:gd name="textAreaRight" fmla="*/ 95400 w 95040"/>
                    <a:gd name="textAreaTop" fmla="*/ 0 h 99000"/>
                    <a:gd name="textAreaBottom" fmla="*/ 99360 h 99000"/>
                  </a:gdLst>
                  <a:ahLst/>
                  <a:rect l="textAreaLeft" t="textAreaTop" r="textAreaRight" b="textAreaBottom"/>
                  <a:pathLst>
                    <a:path w="92" h="64">
                      <a:moveTo>
                        <a:pt x="85" y="4"/>
                      </a:moveTo>
                      <a:cubicBezTo>
                        <a:pt x="82" y="14"/>
                        <a:pt x="79" y="39"/>
                        <a:pt x="91" y="4"/>
                      </a:cubicBezTo>
                      <a:cubicBezTo>
                        <a:pt x="92" y="0"/>
                        <a:pt x="90" y="12"/>
                        <a:pt x="88" y="16"/>
                      </a:cubicBezTo>
                      <a:cubicBezTo>
                        <a:pt x="87" y="19"/>
                        <a:pt x="84" y="22"/>
                        <a:pt x="82" y="25"/>
                      </a:cubicBezTo>
                      <a:cubicBezTo>
                        <a:pt x="73" y="35"/>
                        <a:pt x="53" y="60"/>
                        <a:pt x="40" y="64"/>
                      </a:cubicBezTo>
                      <a:cubicBezTo>
                        <a:pt x="20" y="59"/>
                        <a:pt x="25" y="48"/>
                        <a:pt x="13" y="34"/>
                      </a:cubicBezTo>
                      <a:cubicBezTo>
                        <a:pt x="0" y="19"/>
                        <a:pt x="1" y="28"/>
                        <a:pt x="1" y="19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0" name="Freeform 20"/>
                <p:cNvSpPr/>
                <p:nvPr/>
              </p:nvSpPr>
              <p:spPr>
                <a:xfrm>
                  <a:off x="3827880" y="1343520"/>
                  <a:ext cx="49320" cy="13680"/>
                </a:xfrm>
                <a:custGeom>
                  <a:avLst/>
                  <a:gdLst>
                    <a:gd name="textAreaLeft" fmla="*/ 0 w 49320"/>
                    <a:gd name="textAreaRight" fmla="*/ 49680 w 49320"/>
                    <a:gd name="textAreaTop" fmla="*/ 0 h 13680"/>
                    <a:gd name="textAreaBottom" fmla="*/ 14040 h 13680"/>
                  </a:gdLst>
                  <a:ahLst/>
                  <a:rect l="textAreaLeft" t="textAreaTop" r="textAreaRight" b="textAreaBottom"/>
                  <a:pathLst>
                    <a:path w="48" h="9">
                      <a:moveTo>
                        <a:pt x="48" y="0"/>
                      </a:moveTo>
                      <a:cubicBezTo>
                        <a:pt x="38" y="2"/>
                        <a:pt x="28" y="4"/>
                        <a:pt x="18" y="6"/>
                      </a:cubicBezTo>
                      <a:cubicBezTo>
                        <a:pt x="12" y="7"/>
                        <a:pt x="0" y="9"/>
                        <a:pt x="0" y="9"/>
                      </a:cubicBezTo>
                    </a:path>
                  </a:pathLst>
                </a:custGeom>
                <a:noFill/>
                <a:ln w="763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1" name="Freeform 22"/>
            <p:cNvSpPr/>
            <p:nvPr/>
          </p:nvSpPr>
          <p:spPr>
            <a:xfrm>
              <a:off x="3886560" y="1179360"/>
              <a:ext cx="62640" cy="24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192" h="42">
                  <a:moveTo>
                    <a:pt x="0" y="42"/>
                  </a:moveTo>
                  <a:cubicBezTo>
                    <a:pt x="55" y="37"/>
                    <a:pt x="110" y="40"/>
                    <a:pt x="164" y="28"/>
                  </a:cubicBezTo>
                  <a:cubicBezTo>
                    <a:pt x="177" y="25"/>
                    <a:pt x="192" y="0"/>
                    <a:pt x="192" y="0"/>
                  </a:cubicBez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42" name="Picture 5" descr="C:\Program Files\Microsoft Office\MEDIA\CAGCAT10\j0183328.wmf"/>
          <p:cNvPicPr/>
          <p:nvPr/>
        </p:nvPicPr>
        <p:blipFill>
          <a:blip r:embed="rId2"/>
          <a:stretch/>
        </p:blipFill>
        <p:spPr>
          <a:xfrm>
            <a:off x="4648320" y="838080"/>
            <a:ext cx="1806480" cy="18147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0" y="2361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ch komme aus Deutschland.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ch bin aus Deutschland.  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3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ch komme mit dem Bus.  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4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Karl und ich kommen mit dem Moped aus Liechtenstein.  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5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reeting/formal 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oodbye/ informal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2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is bald, or Tschüs or Tschau, or Wiedersehen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3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uten Abend, or Guten Tag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352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is bald, or Tschüs or Tschau, or Wiedersehen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352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reizehn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lf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2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2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4" descr="C:\Users\ahart\AppData\Local\Microsoft\Windows\Temporary Internet Files\Content.IE5\RCWSW6HJ\MP900422533[1].jpg"/>
          <p:cNvPicPr/>
          <p:nvPr/>
        </p:nvPicPr>
        <p:blipFill>
          <a:blip r:embed="rId2"/>
          <a:stretch/>
        </p:blipFill>
        <p:spPr>
          <a:xfrm>
            <a:off x="5562720" y="91440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4" descr="MCj00787100000[1]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2590920" y="457200"/>
            <a:ext cx="1960560" cy="23940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6212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chtzehn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3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iebzehn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808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chzehn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hen a child is talking to an adult, talking to a boss, the president or queen, authority figures, your elder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ouble Jeopard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ie heisst du?  (Answer needed)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ch heisse … or Ich bin…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ch bin Thomas.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(question needed)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2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ie heisst du? Or Wer bist du?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2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as ist die Liese. (question needed)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3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er ist das?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3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335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3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Picture 3" descr="C:\Users\ahart\AppData\Local\Microsoft\Windows\Temporary Internet Files\Content.IE5\RLJ93M35\MC900326658[1].wmf"/>
          <p:cNvPicPr/>
          <p:nvPr/>
        </p:nvPicPr>
        <p:blipFill>
          <a:blip r:embed="rId2"/>
          <a:stretch/>
        </p:blipFill>
        <p:spPr>
          <a:xfrm>
            <a:off x="5362560" y="762120"/>
            <a:ext cx="2604960" cy="2590560"/>
          </a:xfrm>
          <a:prstGeom prst="rect">
            <a:avLst/>
          </a:prstGeom>
          <a:ln w="0">
            <a:noFill/>
          </a:ln>
        </p:spPr>
      </p:pic>
      <p:grpSp>
        <p:nvGrpSpPr>
          <p:cNvPr id="248" name="Group 4"/>
          <p:cNvGrpSpPr/>
          <p:nvPr/>
        </p:nvGrpSpPr>
        <p:grpSpPr>
          <a:xfrm>
            <a:off x="2133720" y="380880"/>
            <a:ext cx="2666520" cy="3352680"/>
            <a:chOff x="2133720" y="380880"/>
            <a:chExt cx="2666520" cy="3352680"/>
          </a:xfrm>
        </p:grpSpPr>
        <p:grpSp>
          <p:nvGrpSpPr>
            <p:cNvPr id="249" name="Group 5"/>
            <p:cNvGrpSpPr/>
            <p:nvPr/>
          </p:nvGrpSpPr>
          <p:grpSpPr>
            <a:xfrm>
              <a:off x="2133720" y="380880"/>
              <a:ext cx="1451520" cy="3313080"/>
              <a:chOff x="2133720" y="380880"/>
              <a:chExt cx="1451520" cy="3313080"/>
            </a:xfrm>
          </p:grpSpPr>
          <p:sp>
            <p:nvSpPr>
              <p:cNvPr id="250" name="AutoShape 6"/>
              <p:cNvSpPr/>
              <p:nvPr/>
            </p:nvSpPr>
            <p:spPr>
              <a:xfrm>
                <a:off x="2133720" y="380880"/>
                <a:ext cx="1215720" cy="33130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Freeform 7"/>
              <p:cNvSpPr/>
              <p:nvPr/>
            </p:nvSpPr>
            <p:spPr>
              <a:xfrm rot="3711600">
                <a:off x="2802960" y="1471680"/>
                <a:ext cx="773640" cy="482760"/>
              </a:xfrm>
              <a:custGeom>
                <a:avLst/>
                <a:gdLst>
                  <a:gd name="textAreaLeft" fmla="*/ 0 w 773640"/>
                  <a:gd name="textAreaRight" fmla="*/ 774000 w 773640"/>
                  <a:gd name="textAreaTop" fmla="*/ 0 h 482760"/>
                  <a:gd name="textAreaBottom" fmla="*/ 483120 h 482760"/>
                </a:gdLst>
                <a:ahLst/>
                <a:rect l="textAreaLeft" t="textAreaTop" r="textAreaRight" b="textAreaBottom"/>
                <a:pathLst>
                  <a:path w="785" h="1270">
                    <a:moveTo>
                      <a:pt x="78" y="1270"/>
                    </a:moveTo>
                    <a:lnTo>
                      <a:pt x="15" y="1255"/>
                    </a:lnTo>
                    <a:lnTo>
                      <a:pt x="0" y="1177"/>
                    </a:lnTo>
                    <a:lnTo>
                      <a:pt x="101" y="1029"/>
                    </a:lnTo>
                    <a:lnTo>
                      <a:pt x="241" y="790"/>
                    </a:lnTo>
                    <a:lnTo>
                      <a:pt x="358" y="598"/>
                    </a:lnTo>
                    <a:lnTo>
                      <a:pt x="450" y="366"/>
                    </a:lnTo>
                    <a:lnTo>
                      <a:pt x="576" y="224"/>
                    </a:lnTo>
                    <a:lnTo>
                      <a:pt x="708" y="21"/>
                    </a:lnTo>
                    <a:lnTo>
                      <a:pt x="731" y="0"/>
                    </a:lnTo>
                    <a:lnTo>
                      <a:pt x="777" y="6"/>
                    </a:lnTo>
                    <a:lnTo>
                      <a:pt x="785" y="42"/>
                    </a:lnTo>
                    <a:lnTo>
                      <a:pt x="622" y="224"/>
                    </a:lnTo>
                    <a:lnTo>
                      <a:pt x="614" y="302"/>
                    </a:lnTo>
                    <a:lnTo>
                      <a:pt x="662" y="380"/>
                    </a:lnTo>
                    <a:lnTo>
                      <a:pt x="662" y="450"/>
                    </a:lnTo>
                    <a:lnTo>
                      <a:pt x="614" y="494"/>
                    </a:lnTo>
                    <a:lnTo>
                      <a:pt x="498" y="549"/>
                    </a:lnTo>
                    <a:lnTo>
                      <a:pt x="444" y="564"/>
                    </a:lnTo>
                    <a:lnTo>
                      <a:pt x="419" y="606"/>
                    </a:lnTo>
                    <a:lnTo>
                      <a:pt x="358" y="775"/>
                    </a:lnTo>
                    <a:lnTo>
                      <a:pt x="295" y="930"/>
                    </a:lnTo>
                    <a:lnTo>
                      <a:pt x="218" y="1114"/>
                    </a:lnTo>
                    <a:lnTo>
                      <a:pt x="117" y="1270"/>
                    </a:lnTo>
                    <a:lnTo>
                      <a:pt x="78" y="127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Freeform 8"/>
              <p:cNvSpPr/>
              <p:nvPr/>
            </p:nvSpPr>
            <p:spPr>
              <a:xfrm>
                <a:off x="2133720" y="1462320"/>
                <a:ext cx="387360" cy="102600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1026000"/>
                  <a:gd name="textAreaBottom" fmla="*/ 1026360 h 1026000"/>
                </a:gdLst>
                <a:ahLst/>
                <a:rect l="textAreaLeft" t="textAreaTop" r="textAreaRight" b="textAreaBottom"/>
                <a:pathLst>
                  <a:path w="462" h="1145">
                    <a:moveTo>
                      <a:pt x="211" y="91"/>
                    </a:moveTo>
                    <a:lnTo>
                      <a:pt x="297" y="20"/>
                    </a:lnTo>
                    <a:lnTo>
                      <a:pt x="391" y="0"/>
                    </a:lnTo>
                    <a:lnTo>
                      <a:pt x="454" y="20"/>
                    </a:lnTo>
                    <a:lnTo>
                      <a:pt x="462" y="64"/>
                    </a:lnTo>
                    <a:lnTo>
                      <a:pt x="407" y="155"/>
                    </a:lnTo>
                    <a:lnTo>
                      <a:pt x="337" y="155"/>
                    </a:lnTo>
                    <a:lnTo>
                      <a:pt x="266" y="197"/>
                    </a:lnTo>
                    <a:lnTo>
                      <a:pt x="172" y="318"/>
                    </a:lnTo>
                    <a:lnTo>
                      <a:pt x="109" y="453"/>
                    </a:lnTo>
                    <a:lnTo>
                      <a:pt x="109" y="508"/>
                    </a:lnTo>
                    <a:lnTo>
                      <a:pt x="148" y="572"/>
                    </a:lnTo>
                    <a:lnTo>
                      <a:pt x="251" y="629"/>
                    </a:lnTo>
                    <a:lnTo>
                      <a:pt x="345" y="679"/>
                    </a:lnTo>
                    <a:lnTo>
                      <a:pt x="447" y="770"/>
                    </a:lnTo>
                    <a:lnTo>
                      <a:pt x="454" y="848"/>
                    </a:lnTo>
                    <a:lnTo>
                      <a:pt x="360" y="898"/>
                    </a:lnTo>
                    <a:lnTo>
                      <a:pt x="290" y="954"/>
                    </a:lnTo>
                    <a:lnTo>
                      <a:pt x="266" y="1003"/>
                    </a:lnTo>
                    <a:lnTo>
                      <a:pt x="282" y="1054"/>
                    </a:lnTo>
                    <a:lnTo>
                      <a:pt x="251" y="1124"/>
                    </a:lnTo>
                    <a:lnTo>
                      <a:pt x="203" y="1145"/>
                    </a:lnTo>
                    <a:lnTo>
                      <a:pt x="180" y="1132"/>
                    </a:lnTo>
                    <a:lnTo>
                      <a:pt x="188" y="1011"/>
                    </a:lnTo>
                    <a:lnTo>
                      <a:pt x="234" y="925"/>
                    </a:lnTo>
                    <a:lnTo>
                      <a:pt x="322" y="855"/>
                    </a:lnTo>
                    <a:lnTo>
                      <a:pt x="368" y="834"/>
                    </a:lnTo>
                    <a:lnTo>
                      <a:pt x="328" y="728"/>
                    </a:lnTo>
                    <a:lnTo>
                      <a:pt x="259" y="686"/>
                    </a:lnTo>
                    <a:lnTo>
                      <a:pt x="134" y="643"/>
                    </a:lnTo>
                    <a:lnTo>
                      <a:pt x="46" y="580"/>
                    </a:lnTo>
                    <a:lnTo>
                      <a:pt x="0" y="481"/>
                    </a:lnTo>
                    <a:lnTo>
                      <a:pt x="31" y="388"/>
                    </a:lnTo>
                    <a:lnTo>
                      <a:pt x="117" y="246"/>
                    </a:lnTo>
                    <a:lnTo>
                      <a:pt x="188" y="134"/>
                    </a:lnTo>
                    <a:lnTo>
                      <a:pt x="211" y="9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Freeform 9"/>
              <p:cNvSpPr/>
              <p:nvPr/>
            </p:nvSpPr>
            <p:spPr>
              <a:xfrm>
                <a:off x="2532600" y="1379880"/>
                <a:ext cx="404280" cy="916920"/>
              </a:xfrm>
              <a:custGeom>
                <a:avLst/>
                <a:gdLst>
                  <a:gd name="textAreaLeft" fmla="*/ 0 w 404280"/>
                  <a:gd name="textAreaRight" fmla="*/ 404640 w 404280"/>
                  <a:gd name="textAreaTop" fmla="*/ 0 h 916920"/>
                  <a:gd name="textAreaBottom" fmla="*/ 917280 h 916920"/>
                </a:gdLst>
                <a:ahLst/>
                <a:rect l="textAreaLeft" t="textAreaTop" r="textAreaRight" b="textAreaBottom"/>
                <a:pathLst>
                  <a:path w="483" h="1025">
                    <a:moveTo>
                      <a:pt x="40" y="42"/>
                    </a:moveTo>
                    <a:lnTo>
                      <a:pt x="117" y="6"/>
                    </a:lnTo>
                    <a:lnTo>
                      <a:pt x="180" y="0"/>
                    </a:lnTo>
                    <a:lnTo>
                      <a:pt x="289" y="63"/>
                    </a:lnTo>
                    <a:lnTo>
                      <a:pt x="351" y="127"/>
                    </a:lnTo>
                    <a:lnTo>
                      <a:pt x="399" y="219"/>
                    </a:lnTo>
                    <a:lnTo>
                      <a:pt x="437" y="338"/>
                    </a:lnTo>
                    <a:lnTo>
                      <a:pt x="477" y="522"/>
                    </a:lnTo>
                    <a:lnTo>
                      <a:pt x="483" y="727"/>
                    </a:lnTo>
                    <a:lnTo>
                      <a:pt x="460" y="862"/>
                    </a:lnTo>
                    <a:lnTo>
                      <a:pt x="422" y="925"/>
                    </a:lnTo>
                    <a:lnTo>
                      <a:pt x="320" y="989"/>
                    </a:lnTo>
                    <a:lnTo>
                      <a:pt x="211" y="1025"/>
                    </a:lnTo>
                    <a:lnTo>
                      <a:pt x="142" y="1025"/>
                    </a:lnTo>
                    <a:lnTo>
                      <a:pt x="79" y="1010"/>
                    </a:lnTo>
                    <a:lnTo>
                      <a:pt x="40" y="925"/>
                    </a:lnTo>
                    <a:lnTo>
                      <a:pt x="25" y="820"/>
                    </a:lnTo>
                    <a:lnTo>
                      <a:pt x="56" y="748"/>
                    </a:lnTo>
                    <a:lnTo>
                      <a:pt x="94" y="685"/>
                    </a:lnTo>
                    <a:lnTo>
                      <a:pt x="86" y="600"/>
                    </a:lnTo>
                    <a:lnTo>
                      <a:pt x="71" y="494"/>
                    </a:lnTo>
                    <a:lnTo>
                      <a:pt x="40" y="388"/>
                    </a:lnTo>
                    <a:lnTo>
                      <a:pt x="0" y="276"/>
                    </a:lnTo>
                    <a:lnTo>
                      <a:pt x="0" y="190"/>
                    </a:lnTo>
                    <a:lnTo>
                      <a:pt x="25" y="99"/>
                    </a:lnTo>
                    <a:lnTo>
                      <a:pt x="4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Freeform 10"/>
              <p:cNvSpPr/>
              <p:nvPr/>
            </p:nvSpPr>
            <p:spPr>
              <a:xfrm>
                <a:off x="2765520" y="2112480"/>
                <a:ext cx="528120" cy="1176480"/>
              </a:xfrm>
              <a:custGeom>
                <a:avLst/>
                <a:gdLst>
                  <a:gd name="textAreaLeft" fmla="*/ 0 w 528120"/>
                  <a:gd name="textAreaRight" fmla="*/ 528480 w 528120"/>
                  <a:gd name="textAreaTop" fmla="*/ 0 h 1176480"/>
                  <a:gd name="textAreaBottom" fmla="*/ 1176480 h 1176480"/>
                </a:gdLst>
                <a:ahLst/>
                <a:rect l="textAreaLeft" t="textAreaTop" r="textAreaRight" b="textAreaBottom"/>
                <a:pathLst>
                  <a:path w="630" h="1313">
                    <a:moveTo>
                      <a:pt x="0" y="114"/>
                    </a:moveTo>
                    <a:lnTo>
                      <a:pt x="0" y="57"/>
                    </a:lnTo>
                    <a:lnTo>
                      <a:pt x="54" y="0"/>
                    </a:lnTo>
                    <a:lnTo>
                      <a:pt x="94" y="21"/>
                    </a:lnTo>
                    <a:lnTo>
                      <a:pt x="280" y="247"/>
                    </a:lnTo>
                    <a:lnTo>
                      <a:pt x="373" y="374"/>
                    </a:lnTo>
                    <a:lnTo>
                      <a:pt x="397" y="488"/>
                    </a:lnTo>
                    <a:lnTo>
                      <a:pt x="404" y="608"/>
                    </a:lnTo>
                    <a:lnTo>
                      <a:pt x="389" y="771"/>
                    </a:lnTo>
                    <a:lnTo>
                      <a:pt x="335" y="947"/>
                    </a:lnTo>
                    <a:lnTo>
                      <a:pt x="280" y="1052"/>
                    </a:lnTo>
                    <a:lnTo>
                      <a:pt x="257" y="1158"/>
                    </a:lnTo>
                    <a:lnTo>
                      <a:pt x="264" y="1207"/>
                    </a:lnTo>
                    <a:lnTo>
                      <a:pt x="295" y="1222"/>
                    </a:lnTo>
                    <a:lnTo>
                      <a:pt x="482" y="1215"/>
                    </a:lnTo>
                    <a:lnTo>
                      <a:pt x="607" y="1236"/>
                    </a:lnTo>
                    <a:lnTo>
                      <a:pt x="630" y="1264"/>
                    </a:lnTo>
                    <a:lnTo>
                      <a:pt x="630" y="1285"/>
                    </a:lnTo>
                    <a:lnTo>
                      <a:pt x="529" y="1313"/>
                    </a:lnTo>
                    <a:lnTo>
                      <a:pt x="506" y="1306"/>
                    </a:lnTo>
                    <a:lnTo>
                      <a:pt x="421" y="1272"/>
                    </a:lnTo>
                    <a:lnTo>
                      <a:pt x="335" y="1272"/>
                    </a:lnTo>
                    <a:lnTo>
                      <a:pt x="218" y="1272"/>
                    </a:lnTo>
                    <a:lnTo>
                      <a:pt x="178" y="1278"/>
                    </a:lnTo>
                    <a:lnTo>
                      <a:pt x="163" y="1251"/>
                    </a:lnTo>
                    <a:lnTo>
                      <a:pt x="163" y="1207"/>
                    </a:lnTo>
                    <a:lnTo>
                      <a:pt x="203" y="1074"/>
                    </a:lnTo>
                    <a:lnTo>
                      <a:pt x="272" y="932"/>
                    </a:lnTo>
                    <a:lnTo>
                      <a:pt x="318" y="792"/>
                    </a:lnTo>
                    <a:lnTo>
                      <a:pt x="326" y="685"/>
                    </a:lnTo>
                    <a:lnTo>
                      <a:pt x="318" y="537"/>
                    </a:lnTo>
                    <a:lnTo>
                      <a:pt x="287" y="452"/>
                    </a:lnTo>
                    <a:lnTo>
                      <a:pt x="209" y="346"/>
                    </a:lnTo>
                    <a:lnTo>
                      <a:pt x="100" y="247"/>
                    </a:lnTo>
                    <a:lnTo>
                      <a:pt x="23" y="190"/>
                    </a:lnTo>
                    <a:lnTo>
                      <a:pt x="0" y="156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Freeform 11"/>
              <p:cNvSpPr/>
              <p:nvPr/>
            </p:nvSpPr>
            <p:spPr>
              <a:xfrm>
                <a:off x="2287800" y="2177280"/>
                <a:ext cx="444240" cy="1256760"/>
              </a:xfrm>
              <a:custGeom>
                <a:avLst/>
                <a:gdLst>
                  <a:gd name="textAreaLeft" fmla="*/ 0 w 444240"/>
                  <a:gd name="textAreaRight" fmla="*/ 444600 w 444240"/>
                  <a:gd name="textAreaTop" fmla="*/ 0 h 1256760"/>
                  <a:gd name="textAreaBottom" fmla="*/ 1257120 h 1256760"/>
                </a:gdLst>
                <a:ahLst/>
                <a:rect l="textAreaLeft" t="textAreaTop" r="textAreaRight" b="textAreaBottom"/>
                <a:pathLst>
                  <a:path w="529" h="1405">
                    <a:moveTo>
                      <a:pt x="374" y="35"/>
                    </a:moveTo>
                    <a:lnTo>
                      <a:pt x="420" y="0"/>
                    </a:lnTo>
                    <a:lnTo>
                      <a:pt x="514" y="0"/>
                    </a:lnTo>
                    <a:lnTo>
                      <a:pt x="529" y="42"/>
                    </a:lnTo>
                    <a:lnTo>
                      <a:pt x="514" y="154"/>
                    </a:lnTo>
                    <a:lnTo>
                      <a:pt x="429" y="296"/>
                    </a:lnTo>
                    <a:lnTo>
                      <a:pt x="391" y="450"/>
                    </a:lnTo>
                    <a:lnTo>
                      <a:pt x="374" y="642"/>
                    </a:lnTo>
                    <a:lnTo>
                      <a:pt x="429" y="860"/>
                    </a:lnTo>
                    <a:lnTo>
                      <a:pt x="500" y="1072"/>
                    </a:lnTo>
                    <a:lnTo>
                      <a:pt x="506" y="1156"/>
                    </a:lnTo>
                    <a:lnTo>
                      <a:pt x="475" y="1185"/>
                    </a:lnTo>
                    <a:lnTo>
                      <a:pt x="366" y="1185"/>
                    </a:lnTo>
                    <a:lnTo>
                      <a:pt x="257" y="1221"/>
                    </a:lnTo>
                    <a:lnTo>
                      <a:pt x="188" y="1312"/>
                    </a:lnTo>
                    <a:lnTo>
                      <a:pt x="125" y="1397"/>
                    </a:lnTo>
                    <a:lnTo>
                      <a:pt x="94" y="1405"/>
                    </a:lnTo>
                    <a:lnTo>
                      <a:pt x="0" y="1354"/>
                    </a:lnTo>
                    <a:lnTo>
                      <a:pt x="0" y="1319"/>
                    </a:lnTo>
                    <a:lnTo>
                      <a:pt x="125" y="1221"/>
                    </a:lnTo>
                    <a:lnTo>
                      <a:pt x="274" y="1156"/>
                    </a:lnTo>
                    <a:lnTo>
                      <a:pt x="391" y="1122"/>
                    </a:lnTo>
                    <a:lnTo>
                      <a:pt x="414" y="1107"/>
                    </a:lnTo>
                    <a:lnTo>
                      <a:pt x="406" y="1044"/>
                    </a:lnTo>
                    <a:lnTo>
                      <a:pt x="366" y="889"/>
                    </a:lnTo>
                    <a:lnTo>
                      <a:pt x="320" y="712"/>
                    </a:lnTo>
                    <a:lnTo>
                      <a:pt x="297" y="621"/>
                    </a:lnTo>
                    <a:lnTo>
                      <a:pt x="288" y="515"/>
                    </a:lnTo>
                    <a:lnTo>
                      <a:pt x="305" y="395"/>
                    </a:lnTo>
                    <a:lnTo>
                      <a:pt x="335" y="198"/>
                    </a:lnTo>
                    <a:lnTo>
                      <a:pt x="374" y="3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12"/>
            <p:cNvGrpSpPr/>
            <p:nvPr/>
          </p:nvGrpSpPr>
          <p:grpSpPr>
            <a:xfrm>
              <a:off x="3190320" y="1670400"/>
              <a:ext cx="1609920" cy="2063160"/>
              <a:chOff x="3190320" y="1670400"/>
              <a:chExt cx="1609920" cy="2063160"/>
            </a:xfrm>
          </p:grpSpPr>
          <p:sp>
            <p:nvSpPr>
              <p:cNvPr id="257" name="Freeform 13"/>
              <p:cNvSpPr/>
              <p:nvPr/>
            </p:nvSpPr>
            <p:spPr>
              <a:xfrm>
                <a:off x="3190320" y="1670400"/>
                <a:ext cx="1354320" cy="1822680"/>
              </a:xfrm>
              <a:custGeom>
                <a:avLst/>
                <a:gdLst>
                  <a:gd name="textAreaLeft" fmla="*/ 0 w 1354320"/>
                  <a:gd name="textAreaRight" fmla="*/ 1354680 w 1354320"/>
                  <a:gd name="textAreaTop" fmla="*/ 0 h 1822680"/>
                  <a:gd name="textAreaBottom" fmla="*/ 1823040 h 1822680"/>
                </a:gdLst>
                <a:ahLst/>
                <a:rect l="textAreaLeft" t="textAreaTop" r="textAreaRight" b="textAreaBottom"/>
                <a:pathLst>
                  <a:path w="1395" h="1737">
                    <a:moveTo>
                      <a:pt x="1377" y="379"/>
                    </a:moveTo>
                    <a:lnTo>
                      <a:pt x="1367" y="379"/>
                    </a:lnTo>
                    <a:lnTo>
                      <a:pt x="1357" y="379"/>
                    </a:lnTo>
                    <a:lnTo>
                      <a:pt x="1347" y="379"/>
                    </a:lnTo>
                    <a:lnTo>
                      <a:pt x="1338" y="379"/>
                    </a:lnTo>
                    <a:lnTo>
                      <a:pt x="1327" y="379"/>
                    </a:lnTo>
                    <a:lnTo>
                      <a:pt x="1318" y="379"/>
                    </a:lnTo>
                    <a:lnTo>
                      <a:pt x="1308" y="379"/>
                    </a:lnTo>
                    <a:lnTo>
                      <a:pt x="1299" y="379"/>
                    </a:lnTo>
                    <a:lnTo>
                      <a:pt x="1304" y="374"/>
                    </a:lnTo>
                    <a:lnTo>
                      <a:pt x="1309" y="370"/>
                    </a:lnTo>
                    <a:lnTo>
                      <a:pt x="1316" y="364"/>
                    </a:lnTo>
                    <a:lnTo>
                      <a:pt x="1321" y="359"/>
                    </a:lnTo>
                    <a:lnTo>
                      <a:pt x="1327" y="355"/>
                    </a:lnTo>
                    <a:lnTo>
                      <a:pt x="1333" y="351"/>
                    </a:lnTo>
                    <a:lnTo>
                      <a:pt x="1339" y="348"/>
                    </a:lnTo>
                    <a:lnTo>
                      <a:pt x="1346" y="344"/>
                    </a:lnTo>
                    <a:lnTo>
                      <a:pt x="1353" y="341"/>
                    </a:lnTo>
                    <a:lnTo>
                      <a:pt x="1357" y="335"/>
                    </a:lnTo>
                    <a:lnTo>
                      <a:pt x="1359" y="328"/>
                    </a:lnTo>
                    <a:lnTo>
                      <a:pt x="1358" y="321"/>
                    </a:lnTo>
                    <a:lnTo>
                      <a:pt x="1355" y="315"/>
                    </a:lnTo>
                    <a:lnTo>
                      <a:pt x="1348" y="310"/>
                    </a:lnTo>
                    <a:lnTo>
                      <a:pt x="1342" y="309"/>
                    </a:lnTo>
                    <a:lnTo>
                      <a:pt x="1335" y="309"/>
                    </a:lnTo>
                    <a:lnTo>
                      <a:pt x="1325" y="314"/>
                    </a:lnTo>
                    <a:lnTo>
                      <a:pt x="1317" y="318"/>
                    </a:lnTo>
                    <a:lnTo>
                      <a:pt x="1308" y="324"/>
                    </a:lnTo>
                    <a:lnTo>
                      <a:pt x="1301" y="330"/>
                    </a:lnTo>
                    <a:lnTo>
                      <a:pt x="1293" y="336"/>
                    </a:lnTo>
                    <a:lnTo>
                      <a:pt x="1286" y="343"/>
                    </a:lnTo>
                    <a:lnTo>
                      <a:pt x="1278" y="350"/>
                    </a:lnTo>
                    <a:lnTo>
                      <a:pt x="1270" y="356"/>
                    </a:lnTo>
                    <a:lnTo>
                      <a:pt x="1271" y="339"/>
                    </a:lnTo>
                    <a:lnTo>
                      <a:pt x="1275" y="322"/>
                    </a:lnTo>
                    <a:lnTo>
                      <a:pt x="1281" y="305"/>
                    </a:lnTo>
                    <a:lnTo>
                      <a:pt x="1284" y="288"/>
                    </a:lnTo>
                    <a:lnTo>
                      <a:pt x="1285" y="281"/>
                    </a:lnTo>
                    <a:lnTo>
                      <a:pt x="1283" y="274"/>
                    </a:lnTo>
                    <a:lnTo>
                      <a:pt x="1278" y="270"/>
                    </a:lnTo>
                    <a:lnTo>
                      <a:pt x="1271" y="267"/>
                    </a:lnTo>
                    <a:lnTo>
                      <a:pt x="1264" y="267"/>
                    </a:lnTo>
                    <a:lnTo>
                      <a:pt x="1257" y="269"/>
                    </a:lnTo>
                    <a:lnTo>
                      <a:pt x="1252" y="273"/>
                    </a:lnTo>
                    <a:lnTo>
                      <a:pt x="1249" y="280"/>
                    </a:lnTo>
                    <a:lnTo>
                      <a:pt x="1244" y="302"/>
                    </a:lnTo>
                    <a:lnTo>
                      <a:pt x="1238" y="323"/>
                    </a:lnTo>
                    <a:lnTo>
                      <a:pt x="1235" y="345"/>
                    </a:lnTo>
                    <a:lnTo>
                      <a:pt x="1236" y="369"/>
                    </a:lnTo>
                    <a:lnTo>
                      <a:pt x="1214" y="369"/>
                    </a:lnTo>
                    <a:lnTo>
                      <a:pt x="1192" y="371"/>
                    </a:lnTo>
                    <a:lnTo>
                      <a:pt x="1170" y="373"/>
                    </a:lnTo>
                    <a:lnTo>
                      <a:pt x="1147" y="377"/>
                    </a:lnTo>
                    <a:lnTo>
                      <a:pt x="1125" y="381"/>
                    </a:lnTo>
                    <a:lnTo>
                      <a:pt x="1103" y="388"/>
                    </a:lnTo>
                    <a:lnTo>
                      <a:pt x="1082" y="394"/>
                    </a:lnTo>
                    <a:lnTo>
                      <a:pt x="1060" y="400"/>
                    </a:lnTo>
                    <a:lnTo>
                      <a:pt x="1038" y="409"/>
                    </a:lnTo>
                    <a:lnTo>
                      <a:pt x="1016" y="416"/>
                    </a:lnTo>
                    <a:lnTo>
                      <a:pt x="995" y="425"/>
                    </a:lnTo>
                    <a:lnTo>
                      <a:pt x="974" y="433"/>
                    </a:lnTo>
                    <a:lnTo>
                      <a:pt x="953" y="442"/>
                    </a:lnTo>
                    <a:lnTo>
                      <a:pt x="931" y="450"/>
                    </a:lnTo>
                    <a:lnTo>
                      <a:pt x="910" y="459"/>
                    </a:lnTo>
                    <a:lnTo>
                      <a:pt x="889" y="467"/>
                    </a:lnTo>
                    <a:lnTo>
                      <a:pt x="886" y="460"/>
                    </a:lnTo>
                    <a:lnTo>
                      <a:pt x="883" y="452"/>
                    </a:lnTo>
                    <a:lnTo>
                      <a:pt x="880" y="446"/>
                    </a:lnTo>
                    <a:lnTo>
                      <a:pt x="876" y="439"/>
                    </a:lnTo>
                    <a:lnTo>
                      <a:pt x="875" y="438"/>
                    </a:lnTo>
                    <a:lnTo>
                      <a:pt x="875" y="436"/>
                    </a:lnTo>
                    <a:lnTo>
                      <a:pt x="874" y="435"/>
                    </a:lnTo>
                    <a:lnTo>
                      <a:pt x="873" y="434"/>
                    </a:lnTo>
                    <a:lnTo>
                      <a:pt x="879" y="424"/>
                    </a:lnTo>
                    <a:lnTo>
                      <a:pt x="884" y="413"/>
                    </a:lnTo>
                    <a:lnTo>
                      <a:pt x="888" y="403"/>
                    </a:lnTo>
                    <a:lnTo>
                      <a:pt x="893" y="392"/>
                    </a:lnTo>
                    <a:lnTo>
                      <a:pt x="901" y="370"/>
                    </a:lnTo>
                    <a:lnTo>
                      <a:pt x="906" y="345"/>
                    </a:lnTo>
                    <a:lnTo>
                      <a:pt x="909" y="322"/>
                    </a:lnTo>
                    <a:lnTo>
                      <a:pt x="910" y="298"/>
                    </a:lnTo>
                    <a:lnTo>
                      <a:pt x="908" y="274"/>
                    </a:lnTo>
                    <a:lnTo>
                      <a:pt x="904" y="251"/>
                    </a:lnTo>
                    <a:lnTo>
                      <a:pt x="897" y="229"/>
                    </a:lnTo>
                    <a:lnTo>
                      <a:pt x="886" y="208"/>
                    </a:lnTo>
                    <a:lnTo>
                      <a:pt x="890" y="201"/>
                    </a:lnTo>
                    <a:lnTo>
                      <a:pt x="895" y="196"/>
                    </a:lnTo>
                    <a:lnTo>
                      <a:pt x="902" y="194"/>
                    </a:lnTo>
                    <a:lnTo>
                      <a:pt x="909" y="192"/>
                    </a:lnTo>
                    <a:lnTo>
                      <a:pt x="917" y="193"/>
                    </a:lnTo>
                    <a:lnTo>
                      <a:pt x="924" y="195"/>
                    </a:lnTo>
                    <a:lnTo>
                      <a:pt x="930" y="198"/>
                    </a:lnTo>
                    <a:lnTo>
                      <a:pt x="937" y="202"/>
                    </a:lnTo>
                    <a:lnTo>
                      <a:pt x="947" y="211"/>
                    </a:lnTo>
                    <a:lnTo>
                      <a:pt x="949" y="212"/>
                    </a:lnTo>
                    <a:lnTo>
                      <a:pt x="952" y="213"/>
                    </a:lnTo>
                    <a:lnTo>
                      <a:pt x="954" y="214"/>
                    </a:lnTo>
                    <a:lnTo>
                      <a:pt x="957" y="214"/>
                    </a:lnTo>
                    <a:lnTo>
                      <a:pt x="961" y="214"/>
                    </a:lnTo>
                    <a:lnTo>
                      <a:pt x="964" y="214"/>
                    </a:lnTo>
                    <a:lnTo>
                      <a:pt x="966" y="213"/>
                    </a:lnTo>
                    <a:lnTo>
                      <a:pt x="970" y="211"/>
                    </a:lnTo>
                    <a:lnTo>
                      <a:pt x="972" y="210"/>
                    </a:lnTo>
                    <a:lnTo>
                      <a:pt x="977" y="206"/>
                    </a:lnTo>
                    <a:lnTo>
                      <a:pt x="984" y="198"/>
                    </a:lnTo>
                    <a:lnTo>
                      <a:pt x="990" y="190"/>
                    </a:lnTo>
                    <a:lnTo>
                      <a:pt x="994" y="181"/>
                    </a:lnTo>
                    <a:lnTo>
                      <a:pt x="1001" y="175"/>
                    </a:lnTo>
                    <a:lnTo>
                      <a:pt x="1007" y="174"/>
                    </a:lnTo>
                    <a:lnTo>
                      <a:pt x="1011" y="174"/>
                    </a:lnTo>
                    <a:lnTo>
                      <a:pt x="1015" y="175"/>
                    </a:lnTo>
                    <a:lnTo>
                      <a:pt x="1019" y="177"/>
                    </a:lnTo>
                    <a:lnTo>
                      <a:pt x="1024" y="180"/>
                    </a:lnTo>
                    <a:lnTo>
                      <a:pt x="1028" y="183"/>
                    </a:lnTo>
                    <a:lnTo>
                      <a:pt x="1033" y="185"/>
                    </a:lnTo>
                    <a:lnTo>
                      <a:pt x="1037" y="187"/>
                    </a:lnTo>
                    <a:lnTo>
                      <a:pt x="1051" y="193"/>
                    </a:lnTo>
                    <a:lnTo>
                      <a:pt x="1054" y="194"/>
                    </a:lnTo>
                    <a:lnTo>
                      <a:pt x="1057" y="194"/>
                    </a:lnTo>
                    <a:lnTo>
                      <a:pt x="1061" y="194"/>
                    </a:lnTo>
                    <a:lnTo>
                      <a:pt x="1064" y="193"/>
                    </a:lnTo>
                    <a:lnTo>
                      <a:pt x="1073" y="190"/>
                    </a:lnTo>
                    <a:lnTo>
                      <a:pt x="1076" y="189"/>
                    </a:lnTo>
                    <a:lnTo>
                      <a:pt x="1079" y="188"/>
                    </a:lnTo>
                    <a:lnTo>
                      <a:pt x="1080" y="185"/>
                    </a:lnTo>
                    <a:lnTo>
                      <a:pt x="1082" y="183"/>
                    </a:lnTo>
                    <a:lnTo>
                      <a:pt x="1089" y="175"/>
                    </a:lnTo>
                    <a:lnTo>
                      <a:pt x="1091" y="171"/>
                    </a:lnTo>
                    <a:lnTo>
                      <a:pt x="1093" y="167"/>
                    </a:lnTo>
                    <a:lnTo>
                      <a:pt x="1094" y="164"/>
                    </a:lnTo>
                    <a:lnTo>
                      <a:pt x="1097" y="160"/>
                    </a:lnTo>
                    <a:lnTo>
                      <a:pt x="1101" y="158"/>
                    </a:lnTo>
                    <a:lnTo>
                      <a:pt x="1104" y="157"/>
                    </a:lnTo>
                    <a:lnTo>
                      <a:pt x="1110" y="157"/>
                    </a:lnTo>
                    <a:lnTo>
                      <a:pt x="1117" y="158"/>
                    </a:lnTo>
                    <a:lnTo>
                      <a:pt x="1123" y="160"/>
                    </a:lnTo>
                    <a:lnTo>
                      <a:pt x="1130" y="162"/>
                    </a:lnTo>
                    <a:lnTo>
                      <a:pt x="1137" y="164"/>
                    </a:lnTo>
                    <a:lnTo>
                      <a:pt x="1143" y="166"/>
                    </a:lnTo>
                    <a:lnTo>
                      <a:pt x="1149" y="167"/>
                    </a:lnTo>
                    <a:lnTo>
                      <a:pt x="1156" y="167"/>
                    </a:lnTo>
                    <a:lnTo>
                      <a:pt x="1163" y="169"/>
                    </a:lnTo>
                    <a:lnTo>
                      <a:pt x="1167" y="169"/>
                    </a:lnTo>
                    <a:lnTo>
                      <a:pt x="1171" y="167"/>
                    </a:lnTo>
                    <a:lnTo>
                      <a:pt x="1175" y="165"/>
                    </a:lnTo>
                    <a:lnTo>
                      <a:pt x="1178" y="163"/>
                    </a:lnTo>
                    <a:lnTo>
                      <a:pt x="1183" y="156"/>
                    </a:lnTo>
                    <a:lnTo>
                      <a:pt x="1190" y="151"/>
                    </a:lnTo>
                    <a:lnTo>
                      <a:pt x="1195" y="146"/>
                    </a:lnTo>
                    <a:lnTo>
                      <a:pt x="1200" y="141"/>
                    </a:lnTo>
                    <a:lnTo>
                      <a:pt x="1206" y="137"/>
                    </a:lnTo>
                    <a:lnTo>
                      <a:pt x="1212" y="135"/>
                    </a:lnTo>
                    <a:lnTo>
                      <a:pt x="1216" y="137"/>
                    </a:lnTo>
                    <a:lnTo>
                      <a:pt x="1220" y="140"/>
                    </a:lnTo>
                    <a:lnTo>
                      <a:pt x="1225" y="142"/>
                    </a:lnTo>
                    <a:lnTo>
                      <a:pt x="1230" y="143"/>
                    </a:lnTo>
                    <a:lnTo>
                      <a:pt x="1234" y="145"/>
                    </a:lnTo>
                    <a:lnTo>
                      <a:pt x="1239" y="146"/>
                    </a:lnTo>
                    <a:lnTo>
                      <a:pt x="1244" y="146"/>
                    </a:lnTo>
                    <a:lnTo>
                      <a:pt x="1249" y="147"/>
                    </a:lnTo>
                    <a:lnTo>
                      <a:pt x="1256" y="146"/>
                    </a:lnTo>
                    <a:lnTo>
                      <a:pt x="1263" y="143"/>
                    </a:lnTo>
                    <a:lnTo>
                      <a:pt x="1267" y="138"/>
                    </a:lnTo>
                    <a:lnTo>
                      <a:pt x="1269" y="131"/>
                    </a:lnTo>
                    <a:lnTo>
                      <a:pt x="1268" y="124"/>
                    </a:lnTo>
                    <a:lnTo>
                      <a:pt x="1265" y="118"/>
                    </a:lnTo>
                    <a:lnTo>
                      <a:pt x="1260" y="113"/>
                    </a:lnTo>
                    <a:lnTo>
                      <a:pt x="1252" y="111"/>
                    </a:lnTo>
                    <a:lnTo>
                      <a:pt x="1250" y="111"/>
                    </a:lnTo>
                    <a:lnTo>
                      <a:pt x="1247" y="110"/>
                    </a:lnTo>
                    <a:lnTo>
                      <a:pt x="1245" y="110"/>
                    </a:lnTo>
                    <a:lnTo>
                      <a:pt x="1242" y="109"/>
                    </a:lnTo>
                    <a:lnTo>
                      <a:pt x="1220" y="100"/>
                    </a:lnTo>
                    <a:lnTo>
                      <a:pt x="1218" y="99"/>
                    </a:lnTo>
                    <a:lnTo>
                      <a:pt x="1216" y="98"/>
                    </a:lnTo>
                    <a:lnTo>
                      <a:pt x="1213" y="98"/>
                    </a:lnTo>
                    <a:lnTo>
                      <a:pt x="1211" y="99"/>
                    </a:lnTo>
                    <a:lnTo>
                      <a:pt x="1195" y="102"/>
                    </a:lnTo>
                    <a:lnTo>
                      <a:pt x="1190" y="105"/>
                    </a:lnTo>
                    <a:lnTo>
                      <a:pt x="1184" y="108"/>
                    </a:lnTo>
                    <a:lnTo>
                      <a:pt x="1180" y="111"/>
                    </a:lnTo>
                    <a:lnTo>
                      <a:pt x="1176" y="115"/>
                    </a:lnTo>
                    <a:lnTo>
                      <a:pt x="1159" y="131"/>
                    </a:lnTo>
                    <a:lnTo>
                      <a:pt x="1157" y="131"/>
                    </a:lnTo>
                    <a:lnTo>
                      <a:pt x="1153" y="131"/>
                    </a:lnTo>
                    <a:lnTo>
                      <a:pt x="1147" y="130"/>
                    </a:lnTo>
                    <a:lnTo>
                      <a:pt x="1143" y="128"/>
                    </a:lnTo>
                    <a:lnTo>
                      <a:pt x="1139" y="127"/>
                    </a:lnTo>
                    <a:lnTo>
                      <a:pt x="1135" y="125"/>
                    </a:lnTo>
                    <a:lnTo>
                      <a:pt x="1130" y="124"/>
                    </a:lnTo>
                    <a:lnTo>
                      <a:pt x="1125" y="123"/>
                    </a:lnTo>
                    <a:lnTo>
                      <a:pt x="1121" y="122"/>
                    </a:lnTo>
                    <a:lnTo>
                      <a:pt x="1088" y="123"/>
                    </a:lnTo>
                    <a:lnTo>
                      <a:pt x="1086" y="124"/>
                    </a:lnTo>
                    <a:lnTo>
                      <a:pt x="1084" y="125"/>
                    </a:lnTo>
                    <a:lnTo>
                      <a:pt x="1082" y="127"/>
                    </a:lnTo>
                    <a:lnTo>
                      <a:pt x="1080" y="128"/>
                    </a:lnTo>
                    <a:lnTo>
                      <a:pt x="1075" y="134"/>
                    </a:lnTo>
                    <a:lnTo>
                      <a:pt x="1072" y="137"/>
                    </a:lnTo>
                    <a:lnTo>
                      <a:pt x="1069" y="140"/>
                    </a:lnTo>
                    <a:lnTo>
                      <a:pt x="1067" y="144"/>
                    </a:lnTo>
                    <a:lnTo>
                      <a:pt x="1065" y="147"/>
                    </a:lnTo>
                    <a:lnTo>
                      <a:pt x="1057" y="156"/>
                    </a:lnTo>
                    <a:lnTo>
                      <a:pt x="1051" y="154"/>
                    </a:lnTo>
                    <a:lnTo>
                      <a:pt x="1039" y="147"/>
                    </a:lnTo>
                    <a:lnTo>
                      <a:pt x="1027" y="143"/>
                    </a:lnTo>
                    <a:lnTo>
                      <a:pt x="1014" y="141"/>
                    </a:lnTo>
                    <a:lnTo>
                      <a:pt x="1001" y="140"/>
                    </a:lnTo>
                    <a:lnTo>
                      <a:pt x="990" y="142"/>
                    </a:lnTo>
                    <a:lnTo>
                      <a:pt x="978" y="147"/>
                    </a:lnTo>
                    <a:lnTo>
                      <a:pt x="969" y="156"/>
                    </a:lnTo>
                    <a:lnTo>
                      <a:pt x="960" y="167"/>
                    </a:lnTo>
                    <a:lnTo>
                      <a:pt x="957" y="173"/>
                    </a:lnTo>
                    <a:lnTo>
                      <a:pt x="956" y="173"/>
                    </a:lnTo>
                    <a:lnTo>
                      <a:pt x="945" y="164"/>
                    </a:lnTo>
                    <a:lnTo>
                      <a:pt x="934" y="159"/>
                    </a:lnTo>
                    <a:lnTo>
                      <a:pt x="921" y="156"/>
                    </a:lnTo>
                    <a:lnTo>
                      <a:pt x="907" y="156"/>
                    </a:lnTo>
                    <a:lnTo>
                      <a:pt x="894" y="158"/>
                    </a:lnTo>
                    <a:lnTo>
                      <a:pt x="882" y="162"/>
                    </a:lnTo>
                    <a:lnTo>
                      <a:pt x="871" y="170"/>
                    </a:lnTo>
                    <a:lnTo>
                      <a:pt x="862" y="178"/>
                    </a:lnTo>
                    <a:lnTo>
                      <a:pt x="857" y="174"/>
                    </a:lnTo>
                    <a:lnTo>
                      <a:pt x="854" y="171"/>
                    </a:lnTo>
                    <a:lnTo>
                      <a:pt x="850" y="166"/>
                    </a:lnTo>
                    <a:lnTo>
                      <a:pt x="846" y="163"/>
                    </a:lnTo>
                    <a:lnTo>
                      <a:pt x="833" y="155"/>
                    </a:lnTo>
                    <a:lnTo>
                      <a:pt x="820" y="146"/>
                    </a:lnTo>
                    <a:lnTo>
                      <a:pt x="808" y="139"/>
                    </a:lnTo>
                    <a:lnTo>
                      <a:pt x="794" y="133"/>
                    </a:lnTo>
                    <a:lnTo>
                      <a:pt x="780" y="126"/>
                    </a:lnTo>
                    <a:lnTo>
                      <a:pt x="766" y="122"/>
                    </a:lnTo>
                    <a:lnTo>
                      <a:pt x="753" y="118"/>
                    </a:lnTo>
                    <a:lnTo>
                      <a:pt x="738" y="116"/>
                    </a:lnTo>
                    <a:lnTo>
                      <a:pt x="734" y="115"/>
                    </a:lnTo>
                    <a:lnTo>
                      <a:pt x="729" y="113"/>
                    </a:lnTo>
                    <a:lnTo>
                      <a:pt x="725" y="112"/>
                    </a:lnTo>
                    <a:lnTo>
                      <a:pt x="722" y="111"/>
                    </a:lnTo>
                    <a:lnTo>
                      <a:pt x="718" y="110"/>
                    </a:lnTo>
                    <a:lnTo>
                      <a:pt x="713" y="108"/>
                    </a:lnTo>
                    <a:lnTo>
                      <a:pt x="709" y="107"/>
                    </a:lnTo>
                    <a:lnTo>
                      <a:pt x="705" y="106"/>
                    </a:lnTo>
                    <a:lnTo>
                      <a:pt x="707" y="105"/>
                    </a:lnTo>
                    <a:lnTo>
                      <a:pt x="710" y="105"/>
                    </a:lnTo>
                    <a:lnTo>
                      <a:pt x="712" y="104"/>
                    </a:lnTo>
                    <a:lnTo>
                      <a:pt x="716" y="104"/>
                    </a:lnTo>
                    <a:lnTo>
                      <a:pt x="722" y="104"/>
                    </a:lnTo>
                    <a:lnTo>
                      <a:pt x="727" y="105"/>
                    </a:lnTo>
                    <a:lnTo>
                      <a:pt x="734" y="106"/>
                    </a:lnTo>
                    <a:lnTo>
                      <a:pt x="740" y="107"/>
                    </a:lnTo>
                    <a:lnTo>
                      <a:pt x="746" y="108"/>
                    </a:lnTo>
                    <a:lnTo>
                      <a:pt x="753" y="109"/>
                    </a:lnTo>
                    <a:lnTo>
                      <a:pt x="759" y="109"/>
                    </a:lnTo>
                    <a:lnTo>
                      <a:pt x="765" y="110"/>
                    </a:lnTo>
                    <a:lnTo>
                      <a:pt x="772" y="110"/>
                    </a:lnTo>
                    <a:lnTo>
                      <a:pt x="777" y="109"/>
                    </a:lnTo>
                    <a:lnTo>
                      <a:pt x="782" y="107"/>
                    </a:lnTo>
                    <a:lnTo>
                      <a:pt x="786" y="103"/>
                    </a:lnTo>
                    <a:lnTo>
                      <a:pt x="789" y="98"/>
                    </a:lnTo>
                    <a:lnTo>
                      <a:pt x="789" y="97"/>
                    </a:lnTo>
                    <a:lnTo>
                      <a:pt x="791" y="94"/>
                    </a:lnTo>
                    <a:lnTo>
                      <a:pt x="793" y="91"/>
                    </a:lnTo>
                    <a:lnTo>
                      <a:pt x="794" y="88"/>
                    </a:lnTo>
                    <a:lnTo>
                      <a:pt x="796" y="84"/>
                    </a:lnTo>
                    <a:lnTo>
                      <a:pt x="801" y="84"/>
                    </a:lnTo>
                    <a:lnTo>
                      <a:pt x="808" y="84"/>
                    </a:lnTo>
                    <a:lnTo>
                      <a:pt x="813" y="85"/>
                    </a:lnTo>
                    <a:lnTo>
                      <a:pt x="818" y="86"/>
                    </a:lnTo>
                    <a:lnTo>
                      <a:pt x="824" y="87"/>
                    </a:lnTo>
                    <a:lnTo>
                      <a:pt x="830" y="87"/>
                    </a:lnTo>
                    <a:lnTo>
                      <a:pt x="835" y="88"/>
                    </a:lnTo>
                    <a:lnTo>
                      <a:pt x="840" y="89"/>
                    </a:lnTo>
                    <a:lnTo>
                      <a:pt x="854" y="91"/>
                    </a:lnTo>
                    <a:lnTo>
                      <a:pt x="858" y="91"/>
                    </a:lnTo>
                    <a:lnTo>
                      <a:pt x="863" y="90"/>
                    </a:lnTo>
                    <a:lnTo>
                      <a:pt x="867" y="89"/>
                    </a:lnTo>
                    <a:lnTo>
                      <a:pt x="870" y="86"/>
                    </a:lnTo>
                    <a:lnTo>
                      <a:pt x="879" y="74"/>
                    </a:lnTo>
                    <a:lnTo>
                      <a:pt x="879" y="72"/>
                    </a:lnTo>
                    <a:lnTo>
                      <a:pt x="880" y="70"/>
                    </a:lnTo>
                    <a:lnTo>
                      <a:pt x="880" y="67"/>
                    </a:lnTo>
                    <a:lnTo>
                      <a:pt x="880" y="66"/>
                    </a:lnTo>
                    <a:lnTo>
                      <a:pt x="887" y="66"/>
                    </a:lnTo>
                    <a:lnTo>
                      <a:pt x="894" y="66"/>
                    </a:lnTo>
                    <a:lnTo>
                      <a:pt x="901" y="66"/>
                    </a:lnTo>
                    <a:lnTo>
                      <a:pt x="908" y="66"/>
                    </a:lnTo>
                    <a:lnTo>
                      <a:pt x="916" y="66"/>
                    </a:lnTo>
                    <a:lnTo>
                      <a:pt x="923" y="66"/>
                    </a:lnTo>
                    <a:lnTo>
                      <a:pt x="929" y="66"/>
                    </a:lnTo>
                    <a:lnTo>
                      <a:pt x="937" y="66"/>
                    </a:lnTo>
                    <a:lnTo>
                      <a:pt x="942" y="66"/>
                    </a:lnTo>
                    <a:lnTo>
                      <a:pt x="946" y="65"/>
                    </a:lnTo>
                    <a:lnTo>
                      <a:pt x="949" y="64"/>
                    </a:lnTo>
                    <a:lnTo>
                      <a:pt x="953" y="62"/>
                    </a:lnTo>
                    <a:lnTo>
                      <a:pt x="956" y="58"/>
                    </a:lnTo>
                    <a:lnTo>
                      <a:pt x="963" y="50"/>
                    </a:lnTo>
                    <a:lnTo>
                      <a:pt x="964" y="48"/>
                    </a:lnTo>
                    <a:lnTo>
                      <a:pt x="965" y="45"/>
                    </a:lnTo>
                    <a:lnTo>
                      <a:pt x="966" y="44"/>
                    </a:lnTo>
                    <a:lnTo>
                      <a:pt x="966" y="42"/>
                    </a:lnTo>
                    <a:lnTo>
                      <a:pt x="974" y="42"/>
                    </a:lnTo>
                    <a:lnTo>
                      <a:pt x="981" y="44"/>
                    </a:lnTo>
                    <a:lnTo>
                      <a:pt x="990" y="44"/>
                    </a:lnTo>
                    <a:lnTo>
                      <a:pt x="997" y="45"/>
                    </a:lnTo>
                    <a:lnTo>
                      <a:pt x="1004" y="45"/>
                    </a:lnTo>
                    <a:lnTo>
                      <a:pt x="1012" y="42"/>
                    </a:lnTo>
                    <a:lnTo>
                      <a:pt x="1019" y="38"/>
                    </a:lnTo>
                    <a:lnTo>
                      <a:pt x="1027" y="31"/>
                    </a:lnTo>
                    <a:lnTo>
                      <a:pt x="1031" y="24"/>
                    </a:lnTo>
                    <a:lnTo>
                      <a:pt x="1032" y="18"/>
                    </a:lnTo>
                    <a:lnTo>
                      <a:pt x="1030" y="11"/>
                    </a:lnTo>
                    <a:lnTo>
                      <a:pt x="1026" y="5"/>
                    </a:lnTo>
                    <a:lnTo>
                      <a:pt x="1020" y="1"/>
                    </a:lnTo>
                    <a:lnTo>
                      <a:pt x="1013" y="0"/>
                    </a:lnTo>
                    <a:lnTo>
                      <a:pt x="1007" y="2"/>
                    </a:lnTo>
                    <a:lnTo>
                      <a:pt x="1000" y="6"/>
                    </a:lnTo>
                    <a:lnTo>
                      <a:pt x="1002" y="8"/>
                    </a:lnTo>
                    <a:lnTo>
                      <a:pt x="1004" y="9"/>
                    </a:lnTo>
                    <a:lnTo>
                      <a:pt x="1007" y="10"/>
                    </a:lnTo>
                    <a:lnTo>
                      <a:pt x="1009" y="11"/>
                    </a:lnTo>
                    <a:lnTo>
                      <a:pt x="1002" y="10"/>
                    </a:lnTo>
                    <a:lnTo>
                      <a:pt x="997" y="9"/>
                    </a:lnTo>
                    <a:lnTo>
                      <a:pt x="991" y="8"/>
                    </a:lnTo>
                    <a:lnTo>
                      <a:pt x="985" y="8"/>
                    </a:lnTo>
                    <a:lnTo>
                      <a:pt x="980" y="6"/>
                    </a:lnTo>
                    <a:lnTo>
                      <a:pt x="974" y="6"/>
                    </a:lnTo>
                    <a:lnTo>
                      <a:pt x="969" y="8"/>
                    </a:lnTo>
                    <a:lnTo>
                      <a:pt x="962" y="8"/>
                    </a:lnTo>
                    <a:lnTo>
                      <a:pt x="946" y="13"/>
                    </a:lnTo>
                    <a:lnTo>
                      <a:pt x="943" y="14"/>
                    </a:lnTo>
                    <a:lnTo>
                      <a:pt x="941" y="16"/>
                    </a:lnTo>
                    <a:lnTo>
                      <a:pt x="940" y="18"/>
                    </a:lnTo>
                    <a:lnTo>
                      <a:pt x="938" y="21"/>
                    </a:lnTo>
                    <a:lnTo>
                      <a:pt x="934" y="30"/>
                    </a:lnTo>
                    <a:lnTo>
                      <a:pt x="927" y="30"/>
                    </a:lnTo>
                    <a:lnTo>
                      <a:pt x="922" y="30"/>
                    </a:lnTo>
                    <a:lnTo>
                      <a:pt x="917" y="30"/>
                    </a:lnTo>
                    <a:lnTo>
                      <a:pt x="911" y="30"/>
                    </a:lnTo>
                    <a:lnTo>
                      <a:pt x="907" y="30"/>
                    </a:lnTo>
                    <a:lnTo>
                      <a:pt x="902" y="30"/>
                    </a:lnTo>
                    <a:lnTo>
                      <a:pt x="897" y="30"/>
                    </a:lnTo>
                    <a:lnTo>
                      <a:pt x="892" y="30"/>
                    </a:lnTo>
                    <a:lnTo>
                      <a:pt x="887" y="30"/>
                    </a:lnTo>
                    <a:lnTo>
                      <a:pt x="869" y="31"/>
                    </a:lnTo>
                    <a:lnTo>
                      <a:pt x="866" y="31"/>
                    </a:lnTo>
                    <a:lnTo>
                      <a:pt x="863" y="32"/>
                    </a:lnTo>
                    <a:lnTo>
                      <a:pt x="860" y="34"/>
                    </a:lnTo>
                    <a:lnTo>
                      <a:pt x="857" y="35"/>
                    </a:lnTo>
                    <a:lnTo>
                      <a:pt x="852" y="40"/>
                    </a:lnTo>
                    <a:lnTo>
                      <a:pt x="850" y="42"/>
                    </a:lnTo>
                    <a:lnTo>
                      <a:pt x="848" y="46"/>
                    </a:lnTo>
                    <a:lnTo>
                      <a:pt x="847" y="49"/>
                    </a:lnTo>
                    <a:lnTo>
                      <a:pt x="847" y="52"/>
                    </a:lnTo>
                    <a:lnTo>
                      <a:pt x="846" y="54"/>
                    </a:lnTo>
                    <a:lnTo>
                      <a:pt x="839" y="53"/>
                    </a:lnTo>
                    <a:lnTo>
                      <a:pt x="834" y="52"/>
                    </a:lnTo>
                    <a:lnTo>
                      <a:pt x="828" y="51"/>
                    </a:lnTo>
                    <a:lnTo>
                      <a:pt x="821" y="50"/>
                    </a:lnTo>
                    <a:lnTo>
                      <a:pt x="816" y="49"/>
                    </a:lnTo>
                    <a:lnTo>
                      <a:pt x="810" y="49"/>
                    </a:lnTo>
                    <a:lnTo>
                      <a:pt x="803" y="48"/>
                    </a:lnTo>
                    <a:lnTo>
                      <a:pt x="797" y="48"/>
                    </a:lnTo>
                    <a:lnTo>
                      <a:pt x="782" y="49"/>
                    </a:lnTo>
                    <a:lnTo>
                      <a:pt x="779" y="50"/>
                    </a:lnTo>
                    <a:lnTo>
                      <a:pt x="776" y="52"/>
                    </a:lnTo>
                    <a:lnTo>
                      <a:pt x="773" y="54"/>
                    </a:lnTo>
                    <a:lnTo>
                      <a:pt x="771" y="57"/>
                    </a:lnTo>
                    <a:lnTo>
                      <a:pt x="764" y="68"/>
                    </a:lnTo>
                    <a:lnTo>
                      <a:pt x="765" y="67"/>
                    </a:lnTo>
                    <a:lnTo>
                      <a:pt x="762" y="74"/>
                    </a:lnTo>
                    <a:lnTo>
                      <a:pt x="761" y="73"/>
                    </a:lnTo>
                    <a:lnTo>
                      <a:pt x="746" y="70"/>
                    </a:lnTo>
                    <a:lnTo>
                      <a:pt x="731" y="69"/>
                    </a:lnTo>
                    <a:lnTo>
                      <a:pt x="717" y="69"/>
                    </a:lnTo>
                    <a:lnTo>
                      <a:pt x="703" y="71"/>
                    </a:lnTo>
                    <a:lnTo>
                      <a:pt x="688" y="75"/>
                    </a:lnTo>
                    <a:lnTo>
                      <a:pt x="675" y="82"/>
                    </a:lnTo>
                    <a:lnTo>
                      <a:pt x="664" y="91"/>
                    </a:lnTo>
                    <a:lnTo>
                      <a:pt x="653" y="103"/>
                    </a:lnTo>
                    <a:lnTo>
                      <a:pt x="633" y="109"/>
                    </a:lnTo>
                    <a:lnTo>
                      <a:pt x="614" y="118"/>
                    </a:lnTo>
                    <a:lnTo>
                      <a:pt x="597" y="128"/>
                    </a:lnTo>
                    <a:lnTo>
                      <a:pt x="580" y="142"/>
                    </a:lnTo>
                    <a:lnTo>
                      <a:pt x="565" y="157"/>
                    </a:lnTo>
                    <a:lnTo>
                      <a:pt x="550" y="172"/>
                    </a:lnTo>
                    <a:lnTo>
                      <a:pt x="537" y="189"/>
                    </a:lnTo>
                    <a:lnTo>
                      <a:pt x="523" y="205"/>
                    </a:lnTo>
                    <a:lnTo>
                      <a:pt x="510" y="221"/>
                    </a:lnTo>
                    <a:lnTo>
                      <a:pt x="500" y="238"/>
                    </a:lnTo>
                    <a:lnTo>
                      <a:pt x="491" y="257"/>
                    </a:lnTo>
                    <a:lnTo>
                      <a:pt x="484" y="277"/>
                    </a:lnTo>
                    <a:lnTo>
                      <a:pt x="479" y="296"/>
                    </a:lnTo>
                    <a:lnTo>
                      <a:pt x="475" y="315"/>
                    </a:lnTo>
                    <a:lnTo>
                      <a:pt x="473" y="335"/>
                    </a:lnTo>
                    <a:lnTo>
                      <a:pt x="472" y="355"/>
                    </a:lnTo>
                    <a:lnTo>
                      <a:pt x="476" y="367"/>
                    </a:lnTo>
                    <a:lnTo>
                      <a:pt x="481" y="378"/>
                    </a:lnTo>
                    <a:lnTo>
                      <a:pt x="486" y="389"/>
                    </a:lnTo>
                    <a:lnTo>
                      <a:pt x="492" y="399"/>
                    </a:lnTo>
                    <a:lnTo>
                      <a:pt x="500" y="410"/>
                    </a:lnTo>
                    <a:lnTo>
                      <a:pt x="506" y="418"/>
                    </a:lnTo>
                    <a:lnTo>
                      <a:pt x="515" y="428"/>
                    </a:lnTo>
                    <a:lnTo>
                      <a:pt x="523" y="436"/>
                    </a:lnTo>
                    <a:lnTo>
                      <a:pt x="522" y="439"/>
                    </a:lnTo>
                    <a:lnTo>
                      <a:pt x="522" y="440"/>
                    </a:lnTo>
                    <a:lnTo>
                      <a:pt x="521" y="442"/>
                    </a:lnTo>
                    <a:lnTo>
                      <a:pt x="520" y="444"/>
                    </a:lnTo>
                    <a:lnTo>
                      <a:pt x="520" y="451"/>
                    </a:lnTo>
                    <a:lnTo>
                      <a:pt x="520" y="459"/>
                    </a:lnTo>
                    <a:lnTo>
                      <a:pt x="520" y="467"/>
                    </a:lnTo>
                    <a:lnTo>
                      <a:pt x="519" y="475"/>
                    </a:lnTo>
                    <a:lnTo>
                      <a:pt x="505" y="471"/>
                    </a:lnTo>
                    <a:lnTo>
                      <a:pt x="492" y="468"/>
                    </a:lnTo>
                    <a:lnTo>
                      <a:pt x="479" y="465"/>
                    </a:lnTo>
                    <a:lnTo>
                      <a:pt x="466" y="462"/>
                    </a:lnTo>
                    <a:lnTo>
                      <a:pt x="452" y="460"/>
                    </a:lnTo>
                    <a:lnTo>
                      <a:pt x="438" y="457"/>
                    </a:lnTo>
                    <a:lnTo>
                      <a:pt x="425" y="455"/>
                    </a:lnTo>
                    <a:lnTo>
                      <a:pt x="412" y="452"/>
                    </a:lnTo>
                    <a:lnTo>
                      <a:pt x="398" y="451"/>
                    </a:lnTo>
                    <a:lnTo>
                      <a:pt x="384" y="449"/>
                    </a:lnTo>
                    <a:lnTo>
                      <a:pt x="371" y="448"/>
                    </a:lnTo>
                    <a:lnTo>
                      <a:pt x="358" y="448"/>
                    </a:lnTo>
                    <a:lnTo>
                      <a:pt x="344" y="448"/>
                    </a:lnTo>
                    <a:lnTo>
                      <a:pt x="330" y="448"/>
                    </a:lnTo>
                    <a:lnTo>
                      <a:pt x="317" y="448"/>
                    </a:lnTo>
                    <a:lnTo>
                      <a:pt x="303" y="449"/>
                    </a:lnTo>
                    <a:lnTo>
                      <a:pt x="282" y="452"/>
                    </a:lnTo>
                    <a:lnTo>
                      <a:pt x="262" y="457"/>
                    </a:lnTo>
                    <a:lnTo>
                      <a:pt x="241" y="464"/>
                    </a:lnTo>
                    <a:lnTo>
                      <a:pt x="222" y="471"/>
                    </a:lnTo>
                    <a:lnTo>
                      <a:pt x="204" y="481"/>
                    </a:lnTo>
                    <a:lnTo>
                      <a:pt x="185" y="491"/>
                    </a:lnTo>
                    <a:lnTo>
                      <a:pt x="167" y="500"/>
                    </a:lnTo>
                    <a:lnTo>
                      <a:pt x="148" y="510"/>
                    </a:lnTo>
                    <a:lnTo>
                      <a:pt x="135" y="503"/>
                    </a:lnTo>
                    <a:lnTo>
                      <a:pt x="121" y="497"/>
                    </a:lnTo>
                    <a:lnTo>
                      <a:pt x="107" y="493"/>
                    </a:lnTo>
                    <a:lnTo>
                      <a:pt x="92" y="488"/>
                    </a:lnTo>
                    <a:lnTo>
                      <a:pt x="76" y="486"/>
                    </a:lnTo>
                    <a:lnTo>
                      <a:pt x="62" y="487"/>
                    </a:lnTo>
                    <a:lnTo>
                      <a:pt x="46" y="491"/>
                    </a:lnTo>
                    <a:lnTo>
                      <a:pt x="30" y="497"/>
                    </a:lnTo>
                    <a:lnTo>
                      <a:pt x="26" y="502"/>
                    </a:lnTo>
                    <a:lnTo>
                      <a:pt x="23" y="509"/>
                    </a:lnTo>
                    <a:lnTo>
                      <a:pt x="23" y="516"/>
                    </a:lnTo>
                    <a:lnTo>
                      <a:pt x="26" y="522"/>
                    </a:lnTo>
                    <a:lnTo>
                      <a:pt x="31" y="527"/>
                    </a:lnTo>
                    <a:lnTo>
                      <a:pt x="38" y="529"/>
                    </a:lnTo>
                    <a:lnTo>
                      <a:pt x="45" y="529"/>
                    </a:lnTo>
                    <a:lnTo>
                      <a:pt x="51" y="525"/>
                    </a:lnTo>
                    <a:lnTo>
                      <a:pt x="58" y="524"/>
                    </a:lnTo>
                    <a:lnTo>
                      <a:pt x="66" y="524"/>
                    </a:lnTo>
                    <a:lnTo>
                      <a:pt x="73" y="524"/>
                    </a:lnTo>
                    <a:lnTo>
                      <a:pt x="81" y="524"/>
                    </a:lnTo>
                    <a:lnTo>
                      <a:pt x="88" y="525"/>
                    </a:lnTo>
                    <a:lnTo>
                      <a:pt x="95" y="527"/>
                    </a:lnTo>
                    <a:lnTo>
                      <a:pt x="103" y="529"/>
                    </a:lnTo>
                    <a:lnTo>
                      <a:pt x="109" y="531"/>
                    </a:lnTo>
                    <a:lnTo>
                      <a:pt x="96" y="535"/>
                    </a:lnTo>
                    <a:lnTo>
                      <a:pt x="84" y="539"/>
                    </a:lnTo>
                    <a:lnTo>
                      <a:pt x="71" y="543"/>
                    </a:lnTo>
                    <a:lnTo>
                      <a:pt x="58" y="548"/>
                    </a:lnTo>
                    <a:lnTo>
                      <a:pt x="47" y="553"/>
                    </a:lnTo>
                    <a:lnTo>
                      <a:pt x="34" y="558"/>
                    </a:lnTo>
                    <a:lnTo>
                      <a:pt x="22" y="564"/>
                    </a:lnTo>
                    <a:lnTo>
                      <a:pt x="11" y="570"/>
                    </a:lnTo>
                    <a:lnTo>
                      <a:pt x="4" y="574"/>
                    </a:lnTo>
                    <a:lnTo>
                      <a:pt x="1" y="579"/>
                    </a:lnTo>
                    <a:lnTo>
                      <a:pt x="0" y="587"/>
                    </a:lnTo>
                    <a:lnTo>
                      <a:pt x="2" y="593"/>
                    </a:lnTo>
                    <a:lnTo>
                      <a:pt x="7" y="600"/>
                    </a:lnTo>
                    <a:lnTo>
                      <a:pt x="13" y="603"/>
                    </a:lnTo>
                    <a:lnTo>
                      <a:pt x="19" y="604"/>
                    </a:lnTo>
                    <a:lnTo>
                      <a:pt x="26" y="602"/>
                    </a:lnTo>
                    <a:lnTo>
                      <a:pt x="35" y="596"/>
                    </a:lnTo>
                    <a:lnTo>
                      <a:pt x="46" y="592"/>
                    </a:lnTo>
                    <a:lnTo>
                      <a:pt x="55" y="588"/>
                    </a:lnTo>
                    <a:lnTo>
                      <a:pt x="66" y="584"/>
                    </a:lnTo>
                    <a:lnTo>
                      <a:pt x="76" y="579"/>
                    </a:lnTo>
                    <a:lnTo>
                      <a:pt x="87" y="575"/>
                    </a:lnTo>
                    <a:lnTo>
                      <a:pt x="96" y="572"/>
                    </a:lnTo>
                    <a:lnTo>
                      <a:pt x="107" y="569"/>
                    </a:lnTo>
                    <a:lnTo>
                      <a:pt x="101" y="578"/>
                    </a:lnTo>
                    <a:lnTo>
                      <a:pt x="94" y="589"/>
                    </a:lnTo>
                    <a:lnTo>
                      <a:pt x="87" y="599"/>
                    </a:lnTo>
                    <a:lnTo>
                      <a:pt x="81" y="609"/>
                    </a:lnTo>
                    <a:lnTo>
                      <a:pt x="74" y="620"/>
                    </a:lnTo>
                    <a:lnTo>
                      <a:pt x="69" y="630"/>
                    </a:lnTo>
                    <a:lnTo>
                      <a:pt x="64" y="641"/>
                    </a:lnTo>
                    <a:lnTo>
                      <a:pt x="59" y="653"/>
                    </a:lnTo>
                    <a:lnTo>
                      <a:pt x="58" y="660"/>
                    </a:lnTo>
                    <a:lnTo>
                      <a:pt x="59" y="666"/>
                    </a:lnTo>
                    <a:lnTo>
                      <a:pt x="64" y="673"/>
                    </a:lnTo>
                    <a:lnTo>
                      <a:pt x="69" y="676"/>
                    </a:lnTo>
                    <a:lnTo>
                      <a:pt x="76" y="678"/>
                    </a:lnTo>
                    <a:lnTo>
                      <a:pt x="83" y="676"/>
                    </a:lnTo>
                    <a:lnTo>
                      <a:pt x="89" y="673"/>
                    </a:lnTo>
                    <a:lnTo>
                      <a:pt x="92" y="666"/>
                    </a:lnTo>
                    <a:lnTo>
                      <a:pt x="98" y="654"/>
                    </a:lnTo>
                    <a:lnTo>
                      <a:pt x="103" y="641"/>
                    </a:lnTo>
                    <a:lnTo>
                      <a:pt x="110" y="629"/>
                    </a:lnTo>
                    <a:lnTo>
                      <a:pt x="118" y="618"/>
                    </a:lnTo>
                    <a:lnTo>
                      <a:pt x="125" y="607"/>
                    </a:lnTo>
                    <a:lnTo>
                      <a:pt x="132" y="595"/>
                    </a:lnTo>
                    <a:lnTo>
                      <a:pt x="140" y="584"/>
                    </a:lnTo>
                    <a:lnTo>
                      <a:pt x="147" y="572"/>
                    </a:lnTo>
                    <a:lnTo>
                      <a:pt x="149" y="568"/>
                    </a:lnTo>
                    <a:lnTo>
                      <a:pt x="150" y="563"/>
                    </a:lnTo>
                    <a:lnTo>
                      <a:pt x="149" y="558"/>
                    </a:lnTo>
                    <a:lnTo>
                      <a:pt x="147" y="553"/>
                    </a:lnTo>
                    <a:lnTo>
                      <a:pt x="148" y="551"/>
                    </a:lnTo>
                    <a:lnTo>
                      <a:pt x="149" y="550"/>
                    </a:lnTo>
                    <a:lnTo>
                      <a:pt x="150" y="548"/>
                    </a:lnTo>
                    <a:lnTo>
                      <a:pt x="152" y="546"/>
                    </a:lnTo>
                    <a:lnTo>
                      <a:pt x="153" y="546"/>
                    </a:lnTo>
                    <a:lnTo>
                      <a:pt x="154" y="546"/>
                    </a:lnTo>
                    <a:lnTo>
                      <a:pt x="155" y="546"/>
                    </a:lnTo>
                    <a:lnTo>
                      <a:pt x="156" y="546"/>
                    </a:lnTo>
                    <a:lnTo>
                      <a:pt x="174" y="537"/>
                    </a:lnTo>
                    <a:lnTo>
                      <a:pt x="192" y="528"/>
                    </a:lnTo>
                    <a:lnTo>
                      <a:pt x="210" y="519"/>
                    </a:lnTo>
                    <a:lnTo>
                      <a:pt x="228" y="510"/>
                    </a:lnTo>
                    <a:lnTo>
                      <a:pt x="246" y="501"/>
                    </a:lnTo>
                    <a:lnTo>
                      <a:pt x="264" y="495"/>
                    </a:lnTo>
                    <a:lnTo>
                      <a:pt x="283" y="488"/>
                    </a:lnTo>
                    <a:lnTo>
                      <a:pt x="303" y="485"/>
                    </a:lnTo>
                    <a:lnTo>
                      <a:pt x="316" y="484"/>
                    </a:lnTo>
                    <a:lnTo>
                      <a:pt x="329" y="483"/>
                    </a:lnTo>
                    <a:lnTo>
                      <a:pt x="342" y="483"/>
                    </a:lnTo>
                    <a:lnTo>
                      <a:pt x="355" y="483"/>
                    </a:lnTo>
                    <a:lnTo>
                      <a:pt x="368" y="484"/>
                    </a:lnTo>
                    <a:lnTo>
                      <a:pt x="381" y="485"/>
                    </a:lnTo>
                    <a:lnTo>
                      <a:pt x="394" y="486"/>
                    </a:lnTo>
                    <a:lnTo>
                      <a:pt x="408" y="488"/>
                    </a:lnTo>
                    <a:lnTo>
                      <a:pt x="420" y="491"/>
                    </a:lnTo>
                    <a:lnTo>
                      <a:pt x="433" y="493"/>
                    </a:lnTo>
                    <a:lnTo>
                      <a:pt x="446" y="495"/>
                    </a:lnTo>
                    <a:lnTo>
                      <a:pt x="459" y="498"/>
                    </a:lnTo>
                    <a:lnTo>
                      <a:pt x="472" y="500"/>
                    </a:lnTo>
                    <a:lnTo>
                      <a:pt x="485" y="503"/>
                    </a:lnTo>
                    <a:lnTo>
                      <a:pt x="498" y="505"/>
                    </a:lnTo>
                    <a:lnTo>
                      <a:pt x="510" y="509"/>
                    </a:lnTo>
                    <a:lnTo>
                      <a:pt x="512" y="510"/>
                    </a:lnTo>
                    <a:lnTo>
                      <a:pt x="513" y="510"/>
                    </a:lnTo>
                    <a:lnTo>
                      <a:pt x="516" y="510"/>
                    </a:lnTo>
                    <a:lnTo>
                      <a:pt x="517" y="510"/>
                    </a:lnTo>
                    <a:lnTo>
                      <a:pt x="509" y="652"/>
                    </a:lnTo>
                    <a:lnTo>
                      <a:pt x="503" y="797"/>
                    </a:lnTo>
                    <a:lnTo>
                      <a:pt x="497" y="942"/>
                    </a:lnTo>
                    <a:lnTo>
                      <a:pt x="491" y="1079"/>
                    </a:lnTo>
                    <a:lnTo>
                      <a:pt x="498" y="1108"/>
                    </a:lnTo>
                    <a:lnTo>
                      <a:pt x="501" y="1112"/>
                    </a:lnTo>
                    <a:lnTo>
                      <a:pt x="505" y="1115"/>
                    </a:lnTo>
                    <a:lnTo>
                      <a:pt x="510" y="1118"/>
                    </a:lnTo>
                    <a:lnTo>
                      <a:pt x="516" y="1118"/>
                    </a:lnTo>
                    <a:lnTo>
                      <a:pt x="536" y="1115"/>
                    </a:lnTo>
                    <a:lnTo>
                      <a:pt x="543" y="1113"/>
                    </a:lnTo>
                    <a:lnTo>
                      <a:pt x="550" y="1110"/>
                    </a:lnTo>
                    <a:lnTo>
                      <a:pt x="558" y="1109"/>
                    </a:lnTo>
                    <a:lnTo>
                      <a:pt x="565" y="1109"/>
                    </a:lnTo>
                    <a:lnTo>
                      <a:pt x="576" y="1110"/>
                    </a:lnTo>
                    <a:lnTo>
                      <a:pt x="588" y="1110"/>
                    </a:lnTo>
                    <a:lnTo>
                      <a:pt x="598" y="1110"/>
                    </a:lnTo>
                    <a:lnTo>
                      <a:pt x="610" y="1110"/>
                    </a:lnTo>
                    <a:lnTo>
                      <a:pt x="620" y="1110"/>
                    </a:lnTo>
                    <a:lnTo>
                      <a:pt x="632" y="1109"/>
                    </a:lnTo>
                    <a:lnTo>
                      <a:pt x="643" y="1109"/>
                    </a:lnTo>
                    <a:lnTo>
                      <a:pt x="653" y="1108"/>
                    </a:lnTo>
                    <a:lnTo>
                      <a:pt x="659" y="1154"/>
                    </a:lnTo>
                    <a:lnTo>
                      <a:pt x="668" y="1198"/>
                    </a:lnTo>
                    <a:lnTo>
                      <a:pt x="675" y="1243"/>
                    </a:lnTo>
                    <a:lnTo>
                      <a:pt x="682" y="1287"/>
                    </a:lnTo>
                    <a:lnTo>
                      <a:pt x="675" y="1303"/>
                    </a:lnTo>
                    <a:lnTo>
                      <a:pt x="669" y="1318"/>
                    </a:lnTo>
                    <a:lnTo>
                      <a:pt x="662" y="1334"/>
                    </a:lnTo>
                    <a:lnTo>
                      <a:pt x="654" y="1350"/>
                    </a:lnTo>
                    <a:lnTo>
                      <a:pt x="634" y="1356"/>
                    </a:lnTo>
                    <a:lnTo>
                      <a:pt x="614" y="1362"/>
                    </a:lnTo>
                    <a:lnTo>
                      <a:pt x="594" y="1369"/>
                    </a:lnTo>
                    <a:lnTo>
                      <a:pt x="574" y="1375"/>
                    </a:lnTo>
                    <a:lnTo>
                      <a:pt x="555" y="1382"/>
                    </a:lnTo>
                    <a:lnTo>
                      <a:pt x="535" y="1390"/>
                    </a:lnTo>
                    <a:lnTo>
                      <a:pt x="515" y="1396"/>
                    </a:lnTo>
                    <a:lnTo>
                      <a:pt x="494" y="1404"/>
                    </a:lnTo>
                    <a:lnTo>
                      <a:pt x="474" y="1412"/>
                    </a:lnTo>
                    <a:lnTo>
                      <a:pt x="454" y="1419"/>
                    </a:lnTo>
                    <a:lnTo>
                      <a:pt x="434" y="1428"/>
                    </a:lnTo>
                    <a:lnTo>
                      <a:pt x="415" y="1436"/>
                    </a:lnTo>
                    <a:lnTo>
                      <a:pt x="395" y="1445"/>
                    </a:lnTo>
                    <a:lnTo>
                      <a:pt x="375" y="1453"/>
                    </a:lnTo>
                    <a:lnTo>
                      <a:pt x="355" y="1462"/>
                    </a:lnTo>
                    <a:lnTo>
                      <a:pt x="335" y="1471"/>
                    </a:lnTo>
                    <a:lnTo>
                      <a:pt x="322" y="1480"/>
                    </a:lnTo>
                    <a:lnTo>
                      <a:pt x="321" y="1482"/>
                    </a:lnTo>
                    <a:lnTo>
                      <a:pt x="319" y="1484"/>
                    </a:lnTo>
                    <a:lnTo>
                      <a:pt x="318" y="1486"/>
                    </a:lnTo>
                    <a:lnTo>
                      <a:pt x="316" y="1488"/>
                    </a:lnTo>
                    <a:lnTo>
                      <a:pt x="311" y="1503"/>
                    </a:lnTo>
                    <a:lnTo>
                      <a:pt x="311" y="1512"/>
                    </a:lnTo>
                    <a:lnTo>
                      <a:pt x="311" y="1520"/>
                    </a:lnTo>
                    <a:lnTo>
                      <a:pt x="311" y="1529"/>
                    </a:lnTo>
                    <a:lnTo>
                      <a:pt x="313" y="1537"/>
                    </a:lnTo>
                    <a:lnTo>
                      <a:pt x="317" y="1554"/>
                    </a:lnTo>
                    <a:lnTo>
                      <a:pt x="318" y="1558"/>
                    </a:lnTo>
                    <a:lnTo>
                      <a:pt x="320" y="1561"/>
                    </a:lnTo>
                    <a:lnTo>
                      <a:pt x="323" y="1563"/>
                    </a:lnTo>
                    <a:lnTo>
                      <a:pt x="326" y="1566"/>
                    </a:lnTo>
                    <a:lnTo>
                      <a:pt x="335" y="1571"/>
                    </a:lnTo>
                    <a:lnTo>
                      <a:pt x="346" y="1580"/>
                    </a:lnTo>
                    <a:lnTo>
                      <a:pt x="358" y="1590"/>
                    </a:lnTo>
                    <a:lnTo>
                      <a:pt x="370" y="1599"/>
                    </a:lnTo>
                    <a:lnTo>
                      <a:pt x="382" y="1608"/>
                    </a:lnTo>
                    <a:lnTo>
                      <a:pt x="394" y="1616"/>
                    </a:lnTo>
                    <a:lnTo>
                      <a:pt x="407" y="1624"/>
                    </a:lnTo>
                    <a:lnTo>
                      <a:pt x="419" y="1632"/>
                    </a:lnTo>
                    <a:lnTo>
                      <a:pt x="433" y="1639"/>
                    </a:lnTo>
                    <a:lnTo>
                      <a:pt x="446" y="1646"/>
                    </a:lnTo>
                    <a:lnTo>
                      <a:pt x="459" y="1652"/>
                    </a:lnTo>
                    <a:lnTo>
                      <a:pt x="473" y="1659"/>
                    </a:lnTo>
                    <a:lnTo>
                      <a:pt x="487" y="1664"/>
                    </a:lnTo>
                    <a:lnTo>
                      <a:pt x="501" y="1669"/>
                    </a:lnTo>
                    <a:lnTo>
                      <a:pt x="516" y="1674"/>
                    </a:lnTo>
                    <a:lnTo>
                      <a:pt x="529" y="1678"/>
                    </a:lnTo>
                    <a:lnTo>
                      <a:pt x="544" y="1682"/>
                    </a:lnTo>
                    <a:lnTo>
                      <a:pt x="558" y="1681"/>
                    </a:lnTo>
                    <a:lnTo>
                      <a:pt x="572" y="1681"/>
                    </a:lnTo>
                    <a:lnTo>
                      <a:pt x="584" y="1680"/>
                    </a:lnTo>
                    <a:lnTo>
                      <a:pt x="598" y="1678"/>
                    </a:lnTo>
                    <a:lnTo>
                      <a:pt x="612" y="1677"/>
                    </a:lnTo>
                    <a:lnTo>
                      <a:pt x="626" y="1676"/>
                    </a:lnTo>
                    <a:lnTo>
                      <a:pt x="638" y="1674"/>
                    </a:lnTo>
                    <a:lnTo>
                      <a:pt x="652" y="1672"/>
                    </a:lnTo>
                    <a:lnTo>
                      <a:pt x="652" y="1675"/>
                    </a:lnTo>
                    <a:lnTo>
                      <a:pt x="653" y="1678"/>
                    </a:lnTo>
                    <a:lnTo>
                      <a:pt x="653" y="1681"/>
                    </a:lnTo>
                    <a:lnTo>
                      <a:pt x="653" y="1685"/>
                    </a:lnTo>
                    <a:lnTo>
                      <a:pt x="652" y="1693"/>
                    </a:lnTo>
                    <a:lnTo>
                      <a:pt x="652" y="1695"/>
                    </a:lnTo>
                    <a:lnTo>
                      <a:pt x="653" y="1697"/>
                    </a:lnTo>
                    <a:lnTo>
                      <a:pt x="654" y="1699"/>
                    </a:lnTo>
                    <a:lnTo>
                      <a:pt x="655" y="1701"/>
                    </a:lnTo>
                    <a:lnTo>
                      <a:pt x="663" y="1713"/>
                    </a:lnTo>
                    <a:lnTo>
                      <a:pt x="673" y="1721"/>
                    </a:lnTo>
                    <a:lnTo>
                      <a:pt x="686" y="1729"/>
                    </a:lnTo>
                    <a:lnTo>
                      <a:pt x="700" y="1733"/>
                    </a:lnTo>
                    <a:lnTo>
                      <a:pt x="713" y="1736"/>
                    </a:lnTo>
                    <a:lnTo>
                      <a:pt x="727" y="1737"/>
                    </a:lnTo>
                    <a:lnTo>
                      <a:pt x="741" y="1736"/>
                    </a:lnTo>
                    <a:lnTo>
                      <a:pt x="754" y="1732"/>
                    </a:lnTo>
                    <a:lnTo>
                      <a:pt x="765" y="1724"/>
                    </a:lnTo>
                    <a:lnTo>
                      <a:pt x="778" y="1710"/>
                    </a:lnTo>
                    <a:lnTo>
                      <a:pt x="784" y="1691"/>
                    </a:lnTo>
                    <a:lnTo>
                      <a:pt x="784" y="1670"/>
                    </a:lnTo>
                    <a:lnTo>
                      <a:pt x="778" y="1651"/>
                    </a:lnTo>
                    <a:lnTo>
                      <a:pt x="778" y="1650"/>
                    </a:lnTo>
                    <a:lnTo>
                      <a:pt x="777" y="1649"/>
                    </a:lnTo>
                    <a:lnTo>
                      <a:pt x="777" y="1648"/>
                    </a:lnTo>
                    <a:lnTo>
                      <a:pt x="776" y="1647"/>
                    </a:lnTo>
                    <a:lnTo>
                      <a:pt x="790" y="1644"/>
                    </a:lnTo>
                    <a:lnTo>
                      <a:pt x="802" y="1640"/>
                    </a:lnTo>
                    <a:lnTo>
                      <a:pt x="816" y="1637"/>
                    </a:lnTo>
                    <a:lnTo>
                      <a:pt x="830" y="1632"/>
                    </a:lnTo>
                    <a:lnTo>
                      <a:pt x="843" y="1629"/>
                    </a:lnTo>
                    <a:lnTo>
                      <a:pt x="856" y="1625"/>
                    </a:lnTo>
                    <a:lnTo>
                      <a:pt x="870" y="1621"/>
                    </a:lnTo>
                    <a:lnTo>
                      <a:pt x="883" y="1616"/>
                    </a:lnTo>
                    <a:lnTo>
                      <a:pt x="897" y="1612"/>
                    </a:lnTo>
                    <a:lnTo>
                      <a:pt x="909" y="1608"/>
                    </a:lnTo>
                    <a:lnTo>
                      <a:pt x="923" y="1603"/>
                    </a:lnTo>
                    <a:lnTo>
                      <a:pt x="936" y="1598"/>
                    </a:lnTo>
                    <a:lnTo>
                      <a:pt x="949" y="1593"/>
                    </a:lnTo>
                    <a:lnTo>
                      <a:pt x="962" y="1589"/>
                    </a:lnTo>
                    <a:lnTo>
                      <a:pt x="976" y="1584"/>
                    </a:lnTo>
                    <a:lnTo>
                      <a:pt x="989" y="1578"/>
                    </a:lnTo>
                    <a:lnTo>
                      <a:pt x="1002" y="1572"/>
                    </a:lnTo>
                    <a:lnTo>
                      <a:pt x="1016" y="1567"/>
                    </a:lnTo>
                    <a:lnTo>
                      <a:pt x="1030" y="1560"/>
                    </a:lnTo>
                    <a:lnTo>
                      <a:pt x="1044" y="1555"/>
                    </a:lnTo>
                    <a:lnTo>
                      <a:pt x="1057" y="1550"/>
                    </a:lnTo>
                    <a:lnTo>
                      <a:pt x="1071" y="1543"/>
                    </a:lnTo>
                    <a:lnTo>
                      <a:pt x="1085" y="1538"/>
                    </a:lnTo>
                    <a:lnTo>
                      <a:pt x="1099" y="1532"/>
                    </a:lnTo>
                    <a:lnTo>
                      <a:pt x="1104" y="1543"/>
                    </a:lnTo>
                    <a:lnTo>
                      <a:pt x="1110" y="1554"/>
                    </a:lnTo>
                    <a:lnTo>
                      <a:pt x="1120" y="1563"/>
                    </a:lnTo>
                    <a:lnTo>
                      <a:pt x="1130" y="1571"/>
                    </a:lnTo>
                    <a:lnTo>
                      <a:pt x="1141" y="1576"/>
                    </a:lnTo>
                    <a:lnTo>
                      <a:pt x="1154" y="1580"/>
                    </a:lnTo>
                    <a:lnTo>
                      <a:pt x="1166" y="1583"/>
                    </a:lnTo>
                    <a:lnTo>
                      <a:pt x="1180" y="1581"/>
                    </a:lnTo>
                    <a:lnTo>
                      <a:pt x="1201" y="1574"/>
                    </a:lnTo>
                    <a:lnTo>
                      <a:pt x="1205" y="1572"/>
                    </a:lnTo>
                    <a:lnTo>
                      <a:pt x="1208" y="1570"/>
                    </a:lnTo>
                    <a:lnTo>
                      <a:pt x="1211" y="1567"/>
                    </a:lnTo>
                    <a:lnTo>
                      <a:pt x="1213" y="1562"/>
                    </a:lnTo>
                    <a:lnTo>
                      <a:pt x="1215" y="1553"/>
                    </a:lnTo>
                    <a:lnTo>
                      <a:pt x="1222" y="1534"/>
                    </a:lnTo>
                    <a:lnTo>
                      <a:pt x="1225" y="1514"/>
                    </a:lnTo>
                    <a:lnTo>
                      <a:pt x="1219" y="1494"/>
                    </a:lnTo>
                    <a:lnTo>
                      <a:pt x="1207" y="1478"/>
                    </a:lnTo>
                    <a:lnTo>
                      <a:pt x="1217" y="1471"/>
                    </a:lnTo>
                    <a:lnTo>
                      <a:pt x="1229" y="1465"/>
                    </a:lnTo>
                    <a:lnTo>
                      <a:pt x="1239" y="1458"/>
                    </a:lnTo>
                    <a:lnTo>
                      <a:pt x="1251" y="1451"/>
                    </a:lnTo>
                    <a:lnTo>
                      <a:pt x="1262" y="1444"/>
                    </a:lnTo>
                    <a:lnTo>
                      <a:pt x="1272" y="1436"/>
                    </a:lnTo>
                    <a:lnTo>
                      <a:pt x="1282" y="1429"/>
                    </a:lnTo>
                    <a:lnTo>
                      <a:pt x="1292" y="1422"/>
                    </a:lnTo>
                    <a:lnTo>
                      <a:pt x="1308" y="1410"/>
                    </a:lnTo>
                    <a:lnTo>
                      <a:pt x="1310" y="1408"/>
                    </a:lnTo>
                    <a:lnTo>
                      <a:pt x="1312" y="1405"/>
                    </a:lnTo>
                    <a:lnTo>
                      <a:pt x="1314" y="1401"/>
                    </a:lnTo>
                    <a:lnTo>
                      <a:pt x="1315" y="1397"/>
                    </a:lnTo>
                    <a:lnTo>
                      <a:pt x="1316" y="1381"/>
                    </a:lnTo>
                    <a:lnTo>
                      <a:pt x="1307" y="1364"/>
                    </a:lnTo>
                    <a:lnTo>
                      <a:pt x="1298" y="1350"/>
                    </a:lnTo>
                    <a:lnTo>
                      <a:pt x="1286" y="1336"/>
                    </a:lnTo>
                    <a:lnTo>
                      <a:pt x="1273" y="1323"/>
                    </a:lnTo>
                    <a:lnTo>
                      <a:pt x="1261" y="1311"/>
                    </a:lnTo>
                    <a:lnTo>
                      <a:pt x="1246" y="1302"/>
                    </a:lnTo>
                    <a:lnTo>
                      <a:pt x="1231" y="1292"/>
                    </a:lnTo>
                    <a:lnTo>
                      <a:pt x="1215" y="1284"/>
                    </a:lnTo>
                    <a:lnTo>
                      <a:pt x="1198" y="1277"/>
                    </a:lnTo>
                    <a:lnTo>
                      <a:pt x="1181" y="1271"/>
                    </a:lnTo>
                    <a:lnTo>
                      <a:pt x="1163" y="1265"/>
                    </a:lnTo>
                    <a:lnTo>
                      <a:pt x="1146" y="1261"/>
                    </a:lnTo>
                    <a:lnTo>
                      <a:pt x="1128" y="1256"/>
                    </a:lnTo>
                    <a:lnTo>
                      <a:pt x="1110" y="1252"/>
                    </a:lnTo>
                    <a:lnTo>
                      <a:pt x="1092" y="1249"/>
                    </a:lnTo>
                    <a:lnTo>
                      <a:pt x="1075" y="1247"/>
                    </a:lnTo>
                    <a:lnTo>
                      <a:pt x="1074" y="1247"/>
                    </a:lnTo>
                    <a:lnTo>
                      <a:pt x="1072" y="1247"/>
                    </a:lnTo>
                    <a:lnTo>
                      <a:pt x="1071" y="1247"/>
                    </a:lnTo>
                    <a:lnTo>
                      <a:pt x="1069" y="1248"/>
                    </a:lnTo>
                    <a:lnTo>
                      <a:pt x="1058" y="1250"/>
                    </a:lnTo>
                    <a:lnTo>
                      <a:pt x="1048" y="1252"/>
                    </a:lnTo>
                    <a:lnTo>
                      <a:pt x="1037" y="1254"/>
                    </a:lnTo>
                    <a:lnTo>
                      <a:pt x="1028" y="1256"/>
                    </a:lnTo>
                    <a:lnTo>
                      <a:pt x="1017" y="1258"/>
                    </a:lnTo>
                    <a:lnTo>
                      <a:pt x="1007" y="1261"/>
                    </a:lnTo>
                    <a:lnTo>
                      <a:pt x="996" y="1263"/>
                    </a:lnTo>
                    <a:lnTo>
                      <a:pt x="987" y="1265"/>
                    </a:lnTo>
                    <a:lnTo>
                      <a:pt x="991" y="1258"/>
                    </a:lnTo>
                    <a:lnTo>
                      <a:pt x="995" y="1252"/>
                    </a:lnTo>
                    <a:lnTo>
                      <a:pt x="1000" y="1246"/>
                    </a:lnTo>
                    <a:lnTo>
                      <a:pt x="1007" y="1240"/>
                    </a:lnTo>
                    <a:lnTo>
                      <a:pt x="1027" y="1215"/>
                    </a:lnTo>
                    <a:lnTo>
                      <a:pt x="1028" y="1213"/>
                    </a:lnTo>
                    <a:lnTo>
                      <a:pt x="1029" y="1210"/>
                    </a:lnTo>
                    <a:lnTo>
                      <a:pt x="1029" y="1208"/>
                    </a:lnTo>
                    <a:lnTo>
                      <a:pt x="1029" y="1205"/>
                    </a:lnTo>
                    <a:lnTo>
                      <a:pt x="1026" y="1187"/>
                    </a:lnTo>
                    <a:lnTo>
                      <a:pt x="1015" y="1146"/>
                    </a:lnTo>
                    <a:lnTo>
                      <a:pt x="1007" y="1105"/>
                    </a:lnTo>
                    <a:lnTo>
                      <a:pt x="1000" y="1062"/>
                    </a:lnTo>
                    <a:lnTo>
                      <a:pt x="999" y="1020"/>
                    </a:lnTo>
                    <a:lnTo>
                      <a:pt x="1003" y="1019"/>
                    </a:lnTo>
                    <a:lnTo>
                      <a:pt x="1008" y="1018"/>
                    </a:lnTo>
                    <a:lnTo>
                      <a:pt x="1012" y="1017"/>
                    </a:lnTo>
                    <a:lnTo>
                      <a:pt x="1017" y="1015"/>
                    </a:lnTo>
                    <a:lnTo>
                      <a:pt x="1021" y="1014"/>
                    </a:lnTo>
                    <a:lnTo>
                      <a:pt x="1026" y="1013"/>
                    </a:lnTo>
                    <a:lnTo>
                      <a:pt x="1030" y="1012"/>
                    </a:lnTo>
                    <a:lnTo>
                      <a:pt x="1034" y="1011"/>
                    </a:lnTo>
                    <a:lnTo>
                      <a:pt x="1089" y="981"/>
                    </a:lnTo>
                    <a:lnTo>
                      <a:pt x="1090" y="981"/>
                    </a:lnTo>
                    <a:lnTo>
                      <a:pt x="1090" y="980"/>
                    </a:lnTo>
                    <a:lnTo>
                      <a:pt x="1091" y="980"/>
                    </a:lnTo>
                    <a:lnTo>
                      <a:pt x="1096" y="975"/>
                    </a:lnTo>
                    <a:lnTo>
                      <a:pt x="1098" y="967"/>
                    </a:lnTo>
                    <a:lnTo>
                      <a:pt x="1098" y="961"/>
                    </a:lnTo>
                    <a:lnTo>
                      <a:pt x="1094" y="954"/>
                    </a:lnTo>
                    <a:lnTo>
                      <a:pt x="1087" y="945"/>
                    </a:lnTo>
                    <a:lnTo>
                      <a:pt x="1084" y="933"/>
                    </a:lnTo>
                    <a:lnTo>
                      <a:pt x="1073" y="909"/>
                    </a:lnTo>
                    <a:lnTo>
                      <a:pt x="1063" y="885"/>
                    </a:lnTo>
                    <a:lnTo>
                      <a:pt x="1052" y="858"/>
                    </a:lnTo>
                    <a:lnTo>
                      <a:pt x="1040" y="832"/>
                    </a:lnTo>
                    <a:lnTo>
                      <a:pt x="1030" y="805"/>
                    </a:lnTo>
                    <a:lnTo>
                      <a:pt x="1018" y="776"/>
                    </a:lnTo>
                    <a:lnTo>
                      <a:pt x="1007" y="749"/>
                    </a:lnTo>
                    <a:lnTo>
                      <a:pt x="995" y="720"/>
                    </a:lnTo>
                    <a:lnTo>
                      <a:pt x="983" y="692"/>
                    </a:lnTo>
                    <a:lnTo>
                      <a:pt x="972" y="663"/>
                    </a:lnTo>
                    <a:lnTo>
                      <a:pt x="960" y="635"/>
                    </a:lnTo>
                    <a:lnTo>
                      <a:pt x="948" y="607"/>
                    </a:lnTo>
                    <a:lnTo>
                      <a:pt x="937" y="579"/>
                    </a:lnTo>
                    <a:lnTo>
                      <a:pt x="926" y="552"/>
                    </a:lnTo>
                    <a:lnTo>
                      <a:pt x="915" y="525"/>
                    </a:lnTo>
                    <a:lnTo>
                      <a:pt x="903" y="499"/>
                    </a:lnTo>
                    <a:lnTo>
                      <a:pt x="923" y="491"/>
                    </a:lnTo>
                    <a:lnTo>
                      <a:pt x="943" y="482"/>
                    </a:lnTo>
                    <a:lnTo>
                      <a:pt x="963" y="474"/>
                    </a:lnTo>
                    <a:lnTo>
                      <a:pt x="983" y="466"/>
                    </a:lnTo>
                    <a:lnTo>
                      <a:pt x="1003" y="459"/>
                    </a:lnTo>
                    <a:lnTo>
                      <a:pt x="1025" y="451"/>
                    </a:lnTo>
                    <a:lnTo>
                      <a:pt x="1045" y="444"/>
                    </a:lnTo>
                    <a:lnTo>
                      <a:pt x="1066" y="438"/>
                    </a:lnTo>
                    <a:lnTo>
                      <a:pt x="1078" y="433"/>
                    </a:lnTo>
                    <a:lnTo>
                      <a:pt x="1090" y="430"/>
                    </a:lnTo>
                    <a:lnTo>
                      <a:pt x="1102" y="426"/>
                    </a:lnTo>
                    <a:lnTo>
                      <a:pt x="1113" y="423"/>
                    </a:lnTo>
                    <a:lnTo>
                      <a:pt x="1126" y="418"/>
                    </a:lnTo>
                    <a:lnTo>
                      <a:pt x="1138" y="415"/>
                    </a:lnTo>
                    <a:lnTo>
                      <a:pt x="1151" y="412"/>
                    </a:lnTo>
                    <a:lnTo>
                      <a:pt x="1162" y="410"/>
                    </a:lnTo>
                    <a:lnTo>
                      <a:pt x="1175" y="407"/>
                    </a:lnTo>
                    <a:lnTo>
                      <a:pt x="1187" y="405"/>
                    </a:lnTo>
                    <a:lnTo>
                      <a:pt x="1199" y="404"/>
                    </a:lnTo>
                    <a:lnTo>
                      <a:pt x="1212" y="403"/>
                    </a:lnTo>
                    <a:lnTo>
                      <a:pt x="1224" y="403"/>
                    </a:lnTo>
                    <a:lnTo>
                      <a:pt x="1236" y="403"/>
                    </a:lnTo>
                    <a:lnTo>
                      <a:pt x="1248" y="403"/>
                    </a:lnTo>
                    <a:lnTo>
                      <a:pt x="1261" y="405"/>
                    </a:lnTo>
                    <a:lnTo>
                      <a:pt x="1263" y="409"/>
                    </a:lnTo>
                    <a:lnTo>
                      <a:pt x="1267" y="412"/>
                    </a:lnTo>
                    <a:lnTo>
                      <a:pt x="1271" y="414"/>
                    </a:lnTo>
                    <a:lnTo>
                      <a:pt x="1276" y="415"/>
                    </a:lnTo>
                    <a:lnTo>
                      <a:pt x="1289" y="415"/>
                    </a:lnTo>
                    <a:lnTo>
                      <a:pt x="1302" y="415"/>
                    </a:lnTo>
                    <a:lnTo>
                      <a:pt x="1315" y="415"/>
                    </a:lnTo>
                    <a:lnTo>
                      <a:pt x="1327" y="415"/>
                    </a:lnTo>
                    <a:lnTo>
                      <a:pt x="1339" y="415"/>
                    </a:lnTo>
                    <a:lnTo>
                      <a:pt x="1352" y="415"/>
                    </a:lnTo>
                    <a:lnTo>
                      <a:pt x="1364" y="415"/>
                    </a:lnTo>
                    <a:lnTo>
                      <a:pt x="1377" y="415"/>
                    </a:lnTo>
                    <a:lnTo>
                      <a:pt x="1383" y="414"/>
                    </a:lnTo>
                    <a:lnTo>
                      <a:pt x="1390" y="410"/>
                    </a:lnTo>
                    <a:lnTo>
                      <a:pt x="1394" y="405"/>
                    </a:lnTo>
                    <a:lnTo>
                      <a:pt x="1395" y="397"/>
                    </a:lnTo>
                    <a:lnTo>
                      <a:pt x="1394" y="391"/>
                    </a:lnTo>
                    <a:lnTo>
                      <a:pt x="1390" y="385"/>
                    </a:lnTo>
                    <a:lnTo>
                      <a:pt x="1383" y="380"/>
                    </a:lnTo>
                    <a:lnTo>
                      <a:pt x="1377" y="379"/>
                    </a:lnTo>
                    <a:close/>
                  </a:path>
                </a:pathLst>
              </a:custGeom>
              <a:solidFill>
                <a:srgbClr val="0700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Rectangle 14"/>
              <p:cNvSpPr/>
              <p:nvPr/>
            </p:nvSpPr>
            <p:spPr>
              <a:xfrm>
                <a:off x="3401640" y="3078720"/>
                <a:ext cx="1351440" cy="654840"/>
              </a:xfrm>
              <a:prstGeom prst="rect">
                <a:avLst/>
              </a:prstGeom>
              <a:solidFill>
                <a:srgbClr val="000099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Freeform 15"/>
              <p:cNvSpPr/>
              <p:nvPr/>
            </p:nvSpPr>
            <p:spPr>
              <a:xfrm>
                <a:off x="3981600" y="2161440"/>
                <a:ext cx="102600" cy="189720"/>
              </a:xfrm>
              <a:custGeom>
                <a:avLst/>
                <a:gdLst>
                  <a:gd name="textAreaLeft" fmla="*/ 0 w 102600"/>
                  <a:gd name="textAreaRight" fmla="*/ 102960 w 102600"/>
                  <a:gd name="textAreaTop" fmla="*/ 0 h 189720"/>
                  <a:gd name="textAreaBottom" fmla="*/ 190080 h 189720"/>
                </a:gdLst>
                <a:ahLst/>
                <a:rect l="textAreaLeft" t="textAreaTop" r="textAreaRight" b="textAreaBottom"/>
                <a:pathLst>
                  <a:path w="106" h="181">
                    <a:moveTo>
                      <a:pt x="106" y="164"/>
                    </a:moveTo>
                    <a:lnTo>
                      <a:pt x="98" y="169"/>
                    </a:lnTo>
                    <a:lnTo>
                      <a:pt x="91" y="172"/>
                    </a:lnTo>
                    <a:lnTo>
                      <a:pt x="83" y="176"/>
                    </a:lnTo>
                    <a:lnTo>
                      <a:pt x="75" y="179"/>
                    </a:lnTo>
                    <a:lnTo>
                      <a:pt x="66" y="181"/>
                    </a:lnTo>
                    <a:lnTo>
                      <a:pt x="65" y="180"/>
                    </a:lnTo>
                    <a:lnTo>
                      <a:pt x="61" y="175"/>
                    </a:lnTo>
                    <a:lnTo>
                      <a:pt x="53" y="157"/>
                    </a:lnTo>
                    <a:lnTo>
                      <a:pt x="46" y="140"/>
                    </a:lnTo>
                    <a:lnTo>
                      <a:pt x="38" y="122"/>
                    </a:lnTo>
                    <a:lnTo>
                      <a:pt x="31" y="103"/>
                    </a:lnTo>
                    <a:lnTo>
                      <a:pt x="23" y="85"/>
                    </a:lnTo>
                    <a:lnTo>
                      <a:pt x="16" y="67"/>
                    </a:lnTo>
                    <a:lnTo>
                      <a:pt x="9" y="50"/>
                    </a:lnTo>
                    <a:lnTo>
                      <a:pt x="0" y="32"/>
                    </a:lnTo>
                    <a:lnTo>
                      <a:pt x="5" y="29"/>
                    </a:lnTo>
                    <a:lnTo>
                      <a:pt x="10" y="25"/>
                    </a:lnTo>
                    <a:lnTo>
                      <a:pt x="15" y="21"/>
                    </a:lnTo>
                    <a:lnTo>
                      <a:pt x="19" y="17"/>
                    </a:lnTo>
                    <a:lnTo>
                      <a:pt x="23" y="13"/>
                    </a:lnTo>
                    <a:lnTo>
                      <a:pt x="27" y="9"/>
                    </a:lnTo>
                    <a:lnTo>
                      <a:pt x="31" y="5"/>
                    </a:lnTo>
                    <a:lnTo>
                      <a:pt x="35" y="0"/>
                    </a:lnTo>
                    <a:lnTo>
                      <a:pt x="43" y="19"/>
                    </a:lnTo>
                    <a:lnTo>
                      <a:pt x="52" y="38"/>
                    </a:lnTo>
                    <a:lnTo>
                      <a:pt x="60" y="59"/>
                    </a:lnTo>
                    <a:lnTo>
                      <a:pt x="70" y="79"/>
                    </a:lnTo>
                    <a:lnTo>
                      <a:pt x="78" y="100"/>
                    </a:lnTo>
                    <a:lnTo>
                      <a:pt x="88" y="121"/>
                    </a:lnTo>
                    <a:lnTo>
                      <a:pt x="96" y="142"/>
                    </a:lnTo>
                    <a:lnTo>
                      <a:pt x="106" y="1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Freeform 16"/>
              <p:cNvSpPr/>
              <p:nvPr/>
            </p:nvSpPr>
            <p:spPr>
              <a:xfrm>
                <a:off x="3790080" y="2187720"/>
                <a:ext cx="211320" cy="131040"/>
              </a:xfrm>
              <a:custGeom>
                <a:avLst/>
                <a:gdLst>
                  <a:gd name="textAreaLeft" fmla="*/ 0 w 211320"/>
                  <a:gd name="textAreaRight" fmla="*/ 211680 w 211320"/>
                  <a:gd name="textAreaTop" fmla="*/ 0 h 131040"/>
                  <a:gd name="textAreaBottom" fmla="*/ 131400 h 131040"/>
                </a:gdLst>
                <a:ahLst/>
                <a:rect l="textAreaLeft" t="textAreaTop" r="textAreaRight" b="textAreaBottom"/>
                <a:pathLst>
                  <a:path w="218" h="125">
                    <a:moveTo>
                      <a:pt x="0" y="0"/>
                    </a:moveTo>
                    <a:lnTo>
                      <a:pt x="19" y="6"/>
                    </a:lnTo>
                    <a:lnTo>
                      <a:pt x="37" y="11"/>
                    </a:lnTo>
                    <a:lnTo>
                      <a:pt x="57" y="16"/>
                    </a:lnTo>
                    <a:lnTo>
                      <a:pt x="76" y="20"/>
                    </a:lnTo>
                    <a:lnTo>
                      <a:pt x="95" y="23"/>
                    </a:lnTo>
                    <a:lnTo>
                      <a:pt x="115" y="25"/>
                    </a:lnTo>
                    <a:lnTo>
                      <a:pt x="134" y="27"/>
                    </a:lnTo>
                    <a:lnTo>
                      <a:pt x="152" y="28"/>
                    </a:lnTo>
                    <a:lnTo>
                      <a:pt x="159" y="26"/>
                    </a:lnTo>
                    <a:lnTo>
                      <a:pt x="167" y="23"/>
                    </a:lnTo>
                    <a:lnTo>
                      <a:pt x="175" y="20"/>
                    </a:lnTo>
                    <a:lnTo>
                      <a:pt x="182" y="17"/>
                    </a:lnTo>
                    <a:lnTo>
                      <a:pt x="186" y="27"/>
                    </a:lnTo>
                    <a:lnTo>
                      <a:pt x="192" y="38"/>
                    </a:lnTo>
                    <a:lnTo>
                      <a:pt x="196" y="48"/>
                    </a:lnTo>
                    <a:lnTo>
                      <a:pt x="200" y="59"/>
                    </a:lnTo>
                    <a:lnTo>
                      <a:pt x="206" y="70"/>
                    </a:lnTo>
                    <a:lnTo>
                      <a:pt x="210" y="81"/>
                    </a:lnTo>
                    <a:lnTo>
                      <a:pt x="214" y="92"/>
                    </a:lnTo>
                    <a:lnTo>
                      <a:pt x="218" y="102"/>
                    </a:lnTo>
                    <a:lnTo>
                      <a:pt x="204" y="104"/>
                    </a:lnTo>
                    <a:lnTo>
                      <a:pt x="191" y="107"/>
                    </a:lnTo>
                    <a:lnTo>
                      <a:pt x="178" y="109"/>
                    </a:lnTo>
                    <a:lnTo>
                      <a:pt x="164" y="111"/>
                    </a:lnTo>
                    <a:lnTo>
                      <a:pt x="150" y="113"/>
                    </a:lnTo>
                    <a:lnTo>
                      <a:pt x="137" y="114"/>
                    </a:lnTo>
                    <a:lnTo>
                      <a:pt x="123" y="116"/>
                    </a:lnTo>
                    <a:lnTo>
                      <a:pt x="109" y="117"/>
                    </a:lnTo>
                    <a:lnTo>
                      <a:pt x="95" y="118"/>
                    </a:lnTo>
                    <a:lnTo>
                      <a:pt x="83" y="119"/>
                    </a:lnTo>
                    <a:lnTo>
                      <a:pt x="69" y="120"/>
                    </a:lnTo>
                    <a:lnTo>
                      <a:pt x="55" y="121"/>
                    </a:lnTo>
                    <a:lnTo>
                      <a:pt x="41" y="123"/>
                    </a:lnTo>
                    <a:lnTo>
                      <a:pt x="28" y="123"/>
                    </a:lnTo>
                    <a:lnTo>
                      <a:pt x="14" y="124"/>
                    </a:lnTo>
                    <a:lnTo>
                      <a:pt x="0" y="125"/>
                    </a:lnTo>
                    <a:lnTo>
                      <a:pt x="0" y="94"/>
                    </a:lnTo>
                    <a:lnTo>
                      <a:pt x="0" y="62"/>
                    </a:lnTo>
                    <a:lnTo>
                      <a:pt x="0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Freeform 17"/>
              <p:cNvSpPr/>
              <p:nvPr/>
            </p:nvSpPr>
            <p:spPr>
              <a:xfrm>
                <a:off x="3683520" y="1812960"/>
                <a:ext cx="355320" cy="362880"/>
              </a:xfrm>
              <a:custGeom>
                <a:avLst/>
                <a:gdLst>
                  <a:gd name="textAreaLeft" fmla="*/ 0 w 355320"/>
                  <a:gd name="textAreaRight" fmla="*/ 355680 w 355320"/>
                  <a:gd name="textAreaTop" fmla="*/ 0 h 362880"/>
                  <a:gd name="textAreaBottom" fmla="*/ 362880 h 362880"/>
                </a:gdLst>
                <a:ahLst/>
                <a:rect l="textAreaLeft" t="textAreaTop" r="textAreaRight" b="textAreaBottom"/>
                <a:pathLst>
                  <a:path w="366" h="346">
                    <a:moveTo>
                      <a:pt x="0" y="221"/>
                    </a:moveTo>
                    <a:lnTo>
                      <a:pt x="1" y="192"/>
                    </a:lnTo>
                    <a:lnTo>
                      <a:pt x="5" y="164"/>
                    </a:lnTo>
                    <a:lnTo>
                      <a:pt x="15" y="138"/>
                    </a:lnTo>
                    <a:lnTo>
                      <a:pt x="28" y="113"/>
                    </a:lnTo>
                    <a:lnTo>
                      <a:pt x="42" y="90"/>
                    </a:lnTo>
                    <a:lnTo>
                      <a:pt x="60" y="67"/>
                    </a:lnTo>
                    <a:lnTo>
                      <a:pt x="81" y="47"/>
                    </a:lnTo>
                    <a:lnTo>
                      <a:pt x="102" y="28"/>
                    </a:lnTo>
                    <a:lnTo>
                      <a:pt x="107" y="24"/>
                    </a:lnTo>
                    <a:lnTo>
                      <a:pt x="113" y="19"/>
                    </a:lnTo>
                    <a:lnTo>
                      <a:pt x="120" y="15"/>
                    </a:lnTo>
                    <a:lnTo>
                      <a:pt x="126" y="11"/>
                    </a:lnTo>
                    <a:lnTo>
                      <a:pt x="132" y="7"/>
                    </a:lnTo>
                    <a:lnTo>
                      <a:pt x="139" y="5"/>
                    </a:lnTo>
                    <a:lnTo>
                      <a:pt x="145" y="2"/>
                    </a:lnTo>
                    <a:lnTo>
                      <a:pt x="153" y="1"/>
                    </a:lnTo>
                    <a:lnTo>
                      <a:pt x="155" y="1"/>
                    </a:lnTo>
                    <a:lnTo>
                      <a:pt x="157" y="1"/>
                    </a:lnTo>
                    <a:lnTo>
                      <a:pt x="158" y="1"/>
                    </a:lnTo>
                    <a:lnTo>
                      <a:pt x="160" y="0"/>
                    </a:lnTo>
                    <a:lnTo>
                      <a:pt x="161" y="0"/>
                    </a:lnTo>
                    <a:lnTo>
                      <a:pt x="163" y="0"/>
                    </a:lnTo>
                    <a:lnTo>
                      <a:pt x="164" y="0"/>
                    </a:lnTo>
                    <a:lnTo>
                      <a:pt x="165" y="1"/>
                    </a:lnTo>
                    <a:lnTo>
                      <a:pt x="167" y="6"/>
                    </a:lnTo>
                    <a:lnTo>
                      <a:pt x="172" y="10"/>
                    </a:lnTo>
                    <a:lnTo>
                      <a:pt x="176" y="13"/>
                    </a:lnTo>
                    <a:lnTo>
                      <a:pt x="182" y="15"/>
                    </a:lnTo>
                    <a:lnTo>
                      <a:pt x="201" y="13"/>
                    </a:lnTo>
                    <a:lnTo>
                      <a:pt x="220" y="15"/>
                    </a:lnTo>
                    <a:lnTo>
                      <a:pt x="239" y="18"/>
                    </a:lnTo>
                    <a:lnTo>
                      <a:pt x="257" y="23"/>
                    </a:lnTo>
                    <a:lnTo>
                      <a:pt x="275" y="30"/>
                    </a:lnTo>
                    <a:lnTo>
                      <a:pt x="292" y="39"/>
                    </a:lnTo>
                    <a:lnTo>
                      <a:pt x="308" y="49"/>
                    </a:lnTo>
                    <a:lnTo>
                      <a:pt x="323" y="62"/>
                    </a:lnTo>
                    <a:lnTo>
                      <a:pt x="340" y="81"/>
                    </a:lnTo>
                    <a:lnTo>
                      <a:pt x="353" y="102"/>
                    </a:lnTo>
                    <a:lnTo>
                      <a:pt x="361" y="125"/>
                    </a:lnTo>
                    <a:lnTo>
                      <a:pt x="365" y="149"/>
                    </a:lnTo>
                    <a:lnTo>
                      <a:pt x="366" y="173"/>
                    </a:lnTo>
                    <a:lnTo>
                      <a:pt x="364" y="199"/>
                    </a:lnTo>
                    <a:lnTo>
                      <a:pt x="359" y="223"/>
                    </a:lnTo>
                    <a:lnTo>
                      <a:pt x="350" y="246"/>
                    </a:lnTo>
                    <a:lnTo>
                      <a:pt x="343" y="263"/>
                    </a:lnTo>
                    <a:lnTo>
                      <a:pt x="335" y="280"/>
                    </a:lnTo>
                    <a:lnTo>
                      <a:pt x="325" y="297"/>
                    </a:lnTo>
                    <a:lnTo>
                      <a:pt x="313" y="312"/>
                    </a:lnTo>
                    <a:lnTo>
                      <a:pt x="301" y="325"/>
                    </a:lnTo>
                    <a:lnTo>
                      <a:pt x="287" y="335"/>
                    </a:lnTo>
                    <a:lnTo>
                      <a:pt x="270" y="343"/>
                    </a:lnTo>
                    <a:lnTo>
                      <a:pt x="251" y="346"/>
                    </a:lnTo>
                    <a:lnTo>
                      <a:pt x="233" y="346"/>
                    </a:lnTo>
                    <a:lnTo>
                      <a:pt x="215" y="345"/>
                    </a:lnTo>
                    <a:lnTo>
                      <a:pt x="197" y="343"/>
                    </a:lnTo>
                    <a:lnTo>
                      <a:pt x="179" y="340"/>
                    </a:lnTo>
                    <a:lnTo>
                      <a:pt x="160" y="337"/>
                    </a:lnTo>
                    <a:lnTo>
                      <a:pt x="142" y="331"/>
                    </a:lnTo>
                    <a:lnTo>
                      <a:pt x="125" y="325"/>
                    </a:lnTo>
                    <a:lnTo>
                      <a:pt x="107" y="319"/>
                    </a:lnTo>
                    <a:lnTo>
                      <a:pt x="90" y="310"/>
                    </a:lnTo>
                    <a:lnTo>
                      <a:pt x="74" y="300"/>
                    </a:lnTo>
                    <a:lnTo>
                      <a:pt x="59" y="290"/>
                    </a:lnTo>
                    <a:lnTo>
                      <a:pt x="45" y="279"/>
                    </a:lnTo>
                    <a:lnTo>
                      <a:pt x="32" y="267"/>
                    </a:lnTo>
                    <a:lnTo>
                      <a:pt x="20" y="253"/>
                    </a:lnTo>
                    <a:lnTo>
                      <a:pt x="10" y="237"/>
                    </a:lnTo>
                    <a:lnTo>
                      <a:pt x="0" y="2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Freeform 18"/>
              <p:cNvSpPr/>
              <p:nvPr/>
            </p:nvSpPr>
            <p:spPr>
              <a:xfrm>
                <a:off x="3723480" y="2153880"/>
                <a:ext cx="52200" cy="253800"/>
              </a:xfrm>
              <a:custGeom>
                <a:avLst/>
                <a:gdLst>
                  <a:gd name="textAreaLeft" fmla="*/ 0 w 52200"/>
                  <a:gd name="textAreaRight" fmla="*/ 52560 w 52200"/>
                  <a:gd name="textAreaTop" fmla="*/ 0 h 253800"/>
                  <a:gd name="textAreaBottom" fmla="*/ 254160 h 253800"/>
                </a:gdLst>
                <a:ahLst/>
                <a:rect l="textAreaLeft" t="textAreaTop" r="textAreaRight" b="textAreaBottom"/>
                <a:pathLst>
                  <a:path w="54" h="242">
                    <a:moveTo>
                      <a:pt x="54" y="25"/>
                    </a:moveTo>
                    <a:lnTo>
                      <a:pt x="53" y="26"/>
                    </a:lnTo>
                    <a:lnTo>
                      <a:pt x="52" y="28"/>
                    </a:lnTo>
                    <a:lnTo>
                      <a:pt x="51" y="30"/>
                    </a:lnTo>
                    <a:lnTo>
                      <a:pt x="51" y="32"/>
                    </a:lnTo>
                    <a:lnTo>
                      <a:pt x="51" y="64"/>
                    </a:lnTo>
                    <a:lnTo>
                      <a:pt x="51" y="96"/>
                    </a:lnTo>
                    <a:lnTo>
                      <a:pt x="51" y="128"/>
                    </a:lnTo>
                    <a:lnTo>
                      <a:pt x="51" y="161"/>
                    </a:lnTo>
                    <a:lnTo>
                      <a:pt x="50" y="163"/>
                    </a:lnTo>
                    <a:lnTo>
                      <a:pt x="50" y="166"/>
                    </a:lnTo>
                    <a:lnTo>
                      <a:pt x="50" y="168"/>
                    </a:lnTo>
                    <a:lnTo>
                      <a:pt x="51" y="170"/>
                    </a:lnTo>
                    <a:lnTo>
                      <a:pt x="51" y="200"/>
                    </a:lnTo>
                    <a:lnTo>
                      <a:pt x="51" y="222"/>
                    </a:lnTo>
                    <a:lnTo>
                      <a:pt x="51" y="236"/>
                    </a:lnTo>
                    <a:lnTo>
                      <a:pt x="51" y="241"/>
                    </a:lnTo>
                    <a:lnTo>
                      <a:pt x="49" y="242"/>
                    </a:lnTo>
                    <a:lnTo>
                      <a:pt x="43" y="242"/>
                    </a:lnTo>
                    <a:lnTo>
                      <a:pt x="37" y="242"/>
                    </a:lnTo>
                    <a:lnTo>
                      <a:pt x="31" y="242"/>
                    </a:lnTo>
                    <a:lnTo>
                      <a:pt x="25" y="242"/>
                    </a:lnTo>
                    <a:lnTo>
                      <a:pt x="18" y="242"/>
                    </a:lnTo>
                    <a:lnTo>
                      <a:pt x="12" y="242"/>
                    </a:lnTo>
                    <a:lnTo>
                      <a:pt x="7" y="242"/>
                    </a:lnTo>
                    <a:lnTo>
                      <a:pt x="0" y="242"/>
                    </a:lnTo>
                    <a:lnTo>
                      <a:pt x="1" y="180"/>
                    </a:lnTo>
                    <a:lnTo>
                      <a:pt x="1" y="117"/>
                    </a:lnTo>
                    <a:lnTo>
                      <a:pt x="3" y="57"/>
                    </a:lnTo>
                    <a:lnTo>
                      <a:pt x="6" y="0"/>
                    </a:lnTo>
                    <a:lnTo>
                      <a:pt x="11" y="3"/>
                    </a:lnTo>
                    <a:lnTo>
                      <a:pt x="17" y="7"/>
                    </a:lnTo>
                    <a:lnTo>
                      <a:pt x="23" y="10"/>
                    </a:lnTo>
                    <a:lnTo>
                      <a:pt x="29" y="14"/>
                    </a:lnTo>
                    <a:lnTo>
                      <a:pt x="35" y="17"/>
                    </a:lnTo>
                    <a:lnTo>
                      <a:pt x="42" y="20"/>
                    </a:lnTo>
                    <a:lnTo>
                      <a:pt x="48" y="22"/>
                    </a:lnTo>
                    <a:lnTo>
                      <a:pt x="54" y="2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Freeform 19"/>
              <p:cNvSpPr/>
              <p:nvPr/>
            </p:nvSpPr>
            <p:spPr>
              <a:xfrm>
                <a:off x="3841920" y="3407040"/>
                <a:ext cx="75600" cy="49320"/>
              </a:xfrm>
              <a:custGeom>
                <a:avLst/>
                <a:gdLst>
                  <a:gd name="textAreaLeft" fmla="*/ 0 w 75600"/>
                  <a:gd name="textAreaRight" fmla="*/ 75960 w 7560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78" h="47">
                    <a:moveTo>
                      <a:pt x="73" y="8"/>
                    </a:moveTo>
                    <a:lnTo>
                      <a:pt x="76" y="17"/>
                    </a:lnTo>
                    <a:lnTo>
                      <a:pt x="78" y="24"/>
                    </a:lnTo>
                    <a:lnTo>
                      <a:pt x="78" y="31"/>
                    </a:lnTo>
                    <a:lnTo>
                      <a:pt x="75" y="39"/>
                    </a:lnTo>
                    <a:lnTo>
                      <a:pt x="71" y="43"/>
                    </a:lnTo>
                    <a:lnTo>
                      <a:pt x="66" y="46"/>
                    </a:lnTo>
                    <a:lnTo>
                      <a:pt x="59" y="47"/>
                    </a:lnTo>
                    <a:lnTo>
                      <a:pt x="53" y="46"/>
                    </a:lnTo>
                    <a:lnTo>
                      <a:pt x="46" y="45"/>
                    </a:lnTo>
                    <a:lnTo>
                      <a:pt x="39" y="43"/>
                    </a:lnTo>
                    <a:lnTo>
                      <a:pt x="32" y="41"/>
                    </a:lnTo>
                    <a:lnTo>
                      <a:pt x="26" y="40"/>
                    </a:lnTo>
                    <a:lnTo>
                      <a:pt x="15" y="28"/>
                    </a:lnTo>
                    <a:lnTo>
                      <a:pt x="17" y="38"/>
                    </a:lnTo>
                    <a:lnTo>
                      <a:pt x="0" y="13"/>
                    </a:lnTo>
                    <a:lnTo>
                      <a:pt x="4" y="12"/>
                    </a:lnTo>
                    <a:lnTo>
                      <a:pt x="9" y="12"/>
                    </a:lnTo>
                    <a:lnTo>
                      <a:pt x="13" y="12"/>
                    </a:lnTo>
                    <a:lnTo>
                      <a:pt x="17" y="12"/>
                    </a:lnTo>
                    <a:lnTo>
                      <a:pt x="17" y="11"/>
                    </a:lnTo>
                    <a:lnTo>
                      <a:pt x="17" y="10"/>
                    </a:lnTo>
                    <a:lnTo>
                      <a:pt x="24" y="9"/>
                    </a:lnTo>
                    <a:lnTo>
                      <a:pt x="31" y="8"/>
                    </a:lnTo>
                    <a:lnTo>
                      <a:pt x="38" y="7"/>
                    </a:lnTo>
                    <a:lnTo>
                      <a:pt x="46" y="5"/>
                    </a:lnTo>
                    <a:lnTo>
                      <a:pt x="52" y="4"/>
                    </a:lnTo>
                    <a:lnTo>
                      <a:pt x="59" y="3"/>
                    </a:lnTo>
                    <a:lnTo>
                      <a:pt x="66" y="1"/>
                    </a:lnTo>
                    <a:lnTo>
                      <a:pt x="73" y="0"/>
                    </a:lnTo>
                    <a:lnTo>
                      <a:pt x="72" y="2"/>
                    </a:lnTo>
                    <a:lnTo>
                      <a:pt x="72" y="4"/>
                    </a:lnTo>
                    <a:lnTo>
                      <a:pt x="72" y="6"/>
                    </a:lnTo>
                    <a:lnTo>
                      <a:pt x="73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Freeform 20"/>
              <p:cNvSpPr/>
              <p:nvPr/>
            </p:nvSpPr>
            <p:spPr>
              <a:xfrm>
                <a:off x="4288320" y="3240000"/>
                <a:ext cx="59040" cy="53280"/>
              </a:xfrm>
              <a:custGeom>
                <a:avLst/>
                <a:gdLst>
                  <a:gd name="textAreaLeft" fmla="*/ 0 w 59040"/>
                  <a:gd name="textAreaRight" fmla="*/ 59400 w 5904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61" h="51">
                    <a:moveTo>
                      <a:pt x="48" y="4"/>
                    </a:moveTo>
                    <a:lnTo>
                      <a:pt x="53" y="6"/>
                    </a:lnTo>
                    <a:lnTo>
                      <a:pt x="58" y="10"/>
                    </a:lnTo>
                    <a:lnTo>
                      <a:pt x="61" y="17"/>
                    </a:lnTo>
                    <a:lnTo>
                      <a:pt x="61" y="27"/>
                    </a:lnTo>
                    <a:lnTo>
                      <a:pt x="52" y="46"/>
                    </a:lnTo>
                    <a:lnTo>
                      <a:pt x="39" y="49"/>
                    </a:lnTo>
                    <a:lnTo>
                      <a:pt x="31" y="51"/>
                    </a:lnTo>
                    <a:lnTo>
                      <a:pt x="25" y="49"/>
                    </a:lnTo>
                    <a:lnTo>
                      <a:pt x="18" y="47"/>
                    </a:lnTo>
                    <a:lnTo>
                      <a:pt x="13" y="43"/>
                    </a:lnTo>
                    <a:lnTo>
                      <a:pt x="9" y="39"/>
                    </a:lnTo>
                    <a:lnTo>
                      <a:pt x="5" y="34"/>
                    </a:lnTo>
                    <a:lnTo>
                      <a:pt x="3" y="27"/>
                    </a:lnTo>
                    <a:lnTo>
                      <a:pt x="0" y="20"/>
                    </a:lnTo>
                    <a:lnTo>
                      <a:pt x="6" y="18"/>
                    </a:lnTo>
                    <a:lnTo>
                      <a:pt x="11" y="15"/>
                    </a:lnTo>
                    <a:lnTo>
                      <a:pt x="16" y="12"/>
                    </a:lnTo>
                    <a:lnTo>
                      <a:pt x="22" y="10"/>
                    </a:lnTo>
                    <a:lnTo>
                      <a:pt x="27" y="8"/>
                    </a:lnTo>
                    <a:lnTo>
                      <a:pt x="32" y="5"/>
                    </a:lnTo>
                    <a:lnTo>
                      <a:pt x="38" y="3"/>
                    </a:lnTo>
                    <a:lnTo>
                      <a:pt x="43" y="0"/>
                    </a:lnTo>
                    <a:lnTo>
                      <a:pt x="44" y="1"/>
                    </a:lnTo>
                    <a:lnTo>
                      <a:pt x="45" y="2"/>
                    </a:lnTo>
                    <a:lnTo>
                      <a:pt x="47" y="3"/>
                    </a:lnTo>
                    <a:lnTo>
                      <a:pt x="48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Freeform 21"/>
              <p:cNvSpPr/>
              <p:nvPr/>
            </p:nvSpPr>
            <p:spPr>
              <a:xfrm>
                <a:off x="3842640" y="3191040"/>
                <a:ext cx="155160" cy="62640"/>
              </a:xfrm>
              <a:custGeom>
                <a:avLst/>
                <a:gdLst>
                  <a:gd name="textAreaLeft" fmla="*/ 0 w 155160"/>
                  <a:gd name="textAreaRight" fmla="*/ 155520 w 15516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160" h="60">
                    <a:moveTo>
                      <a:pt x="157" y="60"/>
                    </a:moveTo>
                    <a:lnTo>
                      <a:pt x="138" y="60"/>
                    </a:lnTo>
                    <a:lnTo>
                      <a:pt x="119" y="57"/>
                    </a:lnTo>
                    <a:lnTo>
                      <a:pt x="101" y="53"/>
                    </a:lnTo>
                    <a:lnTo>
                      <a:pt x="82" y="48"/>
                    </a:lnTo>
                    <a:lnTo>
                      <a:pt x="65" y="40"/>
                    </a:lnTo>
                    <a:lnTo>
                      <a:pt x="47" y="33"/>
                    </a:lnTo>
                    <a:lnTo>
                      <a:pt x="30" y="24"/>
                    </a:lnTo>
                    <a:lnTo>
                      <a:pt x="13" y="16"/>
                    </a:lnTo>
                    <a:lnTo>
                      <a:pt x="2" y="12"/>
                    </a:lnTo>
                    <a:lnTo>
                      <a:pt x="2" y="11"/>
                    </a:lnTo>
                    <a:lnTo>
                      <a:pt x="1" y="9"/>
                    </a:lnTo>
                    <a:lnTo>
                      <a:pt x="1" y="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0" y="6"/>
                    </a:lnTo>
                    <a:lnTo>
                      <a:pt x="40" y="13"/>
                    </a:lnTo>
                    <a:lnTo>
                      <a:pt x="61" y="18"/>
                    </a:lnTo>
                    <a:lnTo>
                      <a:pt x="81" y="24"/>
                    </a:lnTo>
                    <a:lnTo>
                      <a:pt x="100" y="30"/>
                    </a:lnTo>
                    <a:lnTo>
                      <a:pt x="120" y="36"/>
                    </a:lnTo>
                    <a:lnTo>
                      <a:pt x="140" y="41"/>
                    </a:lnTo>
                    <a:lnTo>
                      <a:pt x="160" y="48"/>
                    </a:lnTo>
                    <a:lnTo>
                      <a:pt x="159" y="51"/>
                    </a:lnTo>
                    <a:lnTo>
                      <a:pt x="159" y="54"/>
                    </a:lnTo>
                    <a:lnTo>
                      <a:pt x="158" y="57"/>
                    </a:lnTo>
                    <a:lnTo>
                      <a:pt x="157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Freeform 22"/>
              <p:cNvSpPr/>
              <p:nvPr/>
            </p:nvSpPr>
            <p:spPr>
              <a:xfrm>
                <a:off x="4094280" y="3093480"/>
                <a:ext cx="99720" cy="5940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103" h="57">
                    <a:moveTo>
                      <a:pt x="94" y="56"/>
                    </a:moveTo>
                    <a:lnTo>
                      <a:pt x="93" y="57"/>
                    </a:lnTo>
                    <a:lnTo>
                      <a:pt x="83" y="55"/>
                    </a:lnTo>
                    <a:lnTo>
                      <a:pt x="73" y="54"/>
                    </a:lnTo>
                    <a:lnTo>
                      <a:pt x="64" y="53"/>
                    </a:lnTo>
                    <a:lnTo>
                      <a:pt x="54" y="50"/>
                    </a:lnTo>
                    <a:lnTo>
                      <a:pt x="45" y="48"/>
                    </a:lnTo>
                    <a:lnTo>
                      <a:pt x="34" y="44"/>
                    </a:lnTo>
                    <a:lnTo>
                      <a:pt x="25" y="42"/>
                    </a:lnTo>
                    <a:lnTo>
                      <a:pt x="15" y="39"/>
                    </a:lnTo>
                    <a:lnTo>
                      <a:pt x="6" y="37"/>
                    </a:lnTo>
                    <a:lnTo>
                      <a:pt x="3" y="35"/>
                    </a:lnTo>
                    <a:lnTo>
                      <a:pt x="0" y="24"/>
                    </a:lnTo>
                    <a:lnTo>
                      <a:pt x="3" y="16"/>
                    </a:lnTo>
                    <a:lnTo>
                      <a:pt x="7" y="7"/>
                    </a:lnTo>
                    <a:lnTo>
                      <a:pt x="12" y="0"/>
                    </a:lnTo>
                    <a:lnTo>
                      <a:pt x="24" y="4"/>
                    </a:lnTo>
                    <a:lnTo>
                      <a:pt x="35" y="8"/>
                    </a:lnTo>
                    <a:lnTo>
                      <a:pt x="46" y="14"/>
                    </a:lnTo>
                    <a:lnTo>
                      <a:pt x="58" y="19"/>
                    </a:lnTo>
                    <a:lnTo>
                      <a:pt x="69" y="23"/>
                    </a:lnTo>
                    <a:lnTo>
                      <a:pt x="80" y="28"/>
                    </a:lnTo>
                    <a:lnTo>
                      <a:pt x="91" y="34"/>
                    </a:lnTo>
                    <a:lnTo>
                      <a:pt x="103" y="38"/>
                    </a:lnTo>
                    <a:lnTo>
                      <a:pt x="101" y="42"/>
                    </a:lnTo>
                    <a:lnTo>
                      <a:pt x="99" y="46"/>
                    </a:lnTo>
                    <a:lnTo>
                      <a:pt x="96" y="52"/>
                    </a:lnTo>
                    <a:lnTo>
                      <a:pt x="94" y="5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Freeform 23"/>
              <p:cNvSpPr/>
              <p:nvPr/>
            </p:nvSpPr>
            <p:spPr>
              <a:xfrm>
                <a:off x="3858480" y="2753280"/>
                <a:ext cx="295920" cy="317880"/>
              </a:xfrm>
              <a:custGeom>
                <a:avLst/>
                <a:gdLst>
                  <a:gd name="textAreaLeft" fmla="*/ 0 w 295920"/>
                  <a:gd name="textAreaRight" fmla="*/ 296280 w 295920"/>
                  <a:gd name="textAreaTop" fmla="*/ 0 h 317880"/>
                  <a:gd name="textAreaBottom" fmla="*/ 317880 h 317880"/>
                </a:gdLst>
                <a:ahLst/>
                <a:rect l="textAreaLeft" t="textAreaTop" r="textAreaRight" b="textAreaBottom"/>
                <a:pathLst>
                  <a:path w="305" h="303">
                    <a:moveTo>
                      <a:pt x="305" y="172"/>
                    </a:moveTo>
                    <a:lnTo>
                      <a:pt x="296" y="180"/>
                    </a:lnTo>
                    <a:lnTo>
                      <a:pt x="288" y="187"/>
                    </a:lnTo>
                    <a:lnTo>
                      <a:pt x="282" y="196"/>
                    </a:lnTo>
                    <a:lnTo>
                      <a:pt x="274" y="204"/>
                    </a:lnTo>
                    <a:lnTo>
                      <a:pt x="269" y="214"/>
                    </a:lnTo>
                    <a:lnTo>
                      <a:pt x="263" y="223"/>
                    </a:lnTo>
                    <a:lnTo>
                      <a:pt x="258" y="233"/>
                    </a:lnTo>
                    <a:lnTo>
                      <a:pt x="253" y="243"/>
                    </a:lnTo>
                    <a:lnTo>
                      <a:pt x="238" y="247"/>
                    </a:lnTo>
                    <a:lnTo>
                      <a:pt x="222" y="250"/>
                    </a:lnTo>
                    <a:lnTo>
                      <a:pt x="207" y="254"/>
                    </a:lnTo>
                    <a:lnTo>
                      <a:pt x="192" y="257"/>
                    </a:lnTo>
                    <a:lnTo>
                      <a:pt x="177" y="260"/>
                    </a:lnTo>
                    <a:lnTo>
                      <a:pt x="162" y="265"/>
                    </a:lnTo>
                    <a:lnTo>
                      <a:pt x="147" y="268"/>
                    </a:lnTo>
                    <a:lnTo>
                      <a:pt x="131" y="272"/>
                    </a:lnTo>
                    <a:lnTo>
                      <a:pt x="116" y="275"/>
                    </a:lnTo>
                    <a:lnTo>
                      <a:pt x="102" y="279"/>
                    </a:lnTo>
                    <a:lnTo>
                      <a:pt x="87" y="284"/>
                    </a:lnTo>
                    <a:lnTo>
                      <a:pt x="72" y="287"/>
                    </a:lnTo>
                    <a:lnTo>
                      <a:pt x="57" y="291"/>
                    </a:lnTo>
                    <a:lnTo>
                      <a:pt x="42" y="295"/>
                    </a:lnTo>
                    <a:lnTo>
                      <a:pt x="28" y="298"/>
                    </a:lnTo>
                    <a:lnTo>
                      <a:pt x="13" y="303"/>
                    </a:lnTo>
                    <a:lnTo>
                      <a:pt x="16" y="294"/>
                    </a:lnTo>
                    <a:lnTo>
                      <a:pt x="19" y="287"/>
                    </a:lnTo>
                    <a:lnTo>
                      <a:pt x="21" y="278"/>
                    </a:lnTo>
                    <a:lnTo>
                      <a:pt x="23" y="270"/>
                    </a:lnTo>
                    <a:lnTo>
                      <a:pt x="27" y="244"/>
                    </a:lnTo>
                    <a:lnTo>
                      <a:pt x="27" y="220"/>
                    </a:lnTo>
                    <a:lnTo>
                      <a:pt x="24" y="195"/>
                    </a:lnTo>
                    <a:lnTo>
                      <a:pt x="20" y="170"/>
                    </a:lnTo>
                    <a:lnTo>
                      <a:pt x="15" y="146"/>
                    </a:lnTo>
                    <a:lnTo>
                      <a:pt x="10" y="122"/>
                    </a:lnTo>
                    <a:lnTo>
                      <a:pt x="4" y="97"/>
                    </a:lnTo>
                    <a:lnTo>
                      <a:pt x="0" y="73"/>
                    </a:lnTo>
                    <a:lnTo>
                      <a:pt x="18" y="70"/>
                    </a:lnTo>
                    <a:lnTo>
                      <a:pt x="35" y="66"/>
                    </a:lnTo>
                    <a:lnTo>
                      <a:pt x="53" y="63"/>
                    </a:lnTo>
                    <a:lnTo>
                      <a:pt x="70" y="60"/>
                    </a:lnTo>
                    <a:lnTo>
                      <a:pt x="87" y="56"/>
                    </a:lnTo>
                    <a:lnTo>
                      <a:pt x="105" y="52"/>
                    </a:lnTo>
                    <a:lnTo>
                      <a:pt x="122" y="46"/>
                    </a:lnTo>
                    <a:lnTo>
                      <a:pt x="139" y="42"/>
                    </a:lnTo>
                    <a:lnTo>
                      <a:pt x="156" y="37"/>
                    </a:lnTo>
                    <a:lnTo>
                      <a:pt x="173" y="32"/>
                    </a:lnTo>
                    <a:lnTo>
                      <a:pt x="191" y="26"/>
                    </a:lnTo>
                    <a:lnTo>
                      <a:pt x="207" y="21"/>
                    </a:lnTo>
                    <a:lnTo>
                      <a:pt x="224" y="16"/>
                    </a:lnTo>
                    <a:lnTo>
                      <a:pt x="241" y="10"/>
                    </a:lnTo>
                    <a:lnTo>
                      <a:pt x="258" y="5"/>
                    </a:lnTo>
                    <a:lnTo>
                      <a:pt x="275" y="0"/>
                    </a:lnTo>
                    <a:lnTo>
                      <a:pt x="277" y="43"/>
                    </a:lnTo>
                    <a:lnTo>
                      <a:pt x="285" y="87"/>
                    </a:lnTo>
                    <a:lnTo>
                      <a:pt x="294" y="129"/>
                    </a:lnTo>
                    <a:lnTo>
                      <a:pt x="305" y="17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Freeform 24"/>
              <p:cNvSpPr/>
              <p:nvPr/>
            </p:nvSpPr>
            <p:spPr>
              <a:xfrm>
                <a:off x="3701880" y="2311200"/>
                <a:ext cx="511560" cy="491040"/>
              </a:xfrm>
              <a:custGeom>
                <a:avLst/>
                <a:gdLst>
                  <a:gd name="textAreaLeft" fmla="*/ 0 w 511560"/>
                  <a:gd name="textAreaRight" fmla="*/ 511920 w 511560"/>
                  <a:gd name="textAreaTop" fmla="*/ 0 h 491040"/>
                  <a:gd name="textAreaBottom" fmla="*/ 491400 h 491040"/>
                </a:gdLst>
                <a:ahLst/>
                <a:rect l="textAreaLeft" t="textAreaTop" r="textAreaRight" b="textAreaBottom"/>
                <a:pathLst>
                  <a:path w="527" h="468">
                    <a:moveTo>
                      <a:pt x="526" y="349"/>
                    </a:moveTo>
                    <a:lnTo>
                      <a:pt x="526" y="349"/>
                    </a:lnTo>
                    <a:lnTo>
                      <a:pt x="527" y="349"/>
                    </a:lnTo>
                    <a:lnTo>
                      <a:pt x="527" y="350"/>
                    </a:lnTo>
                    <a:lnTo>
                      <a:pt x="520" y="355"/>
                    </a:lnTo>
                    <a:lnTo>
                      <a:pt x="512" y="357"/>
                    </a:lnTo>
                    <a:lnTo>
                      <a:pt x="505" y="359"/>
                    </a:lnTo>
                    <a:lnTo>
                      <a:pt x="499" y="363"/>
                    </a:lnTo>
                    <a:lnTo>
                      <a:pt x="491" y="365"/>
                    </a:lnTo>
                    <a:lnTo>
                      <a:pt x="484" y="367"/>
                    </a:lnTo>
                    <a:lnTo>
                      <a:pt x="476" y="369"/>
                    </a:lnTo>
                    <a:lnTo>
                      <a:pt x="469" y="372"/>
                    </a:lnTo>
                    <a:lnTo>
                      <a:pt x="462" y="374"/>
                    </a:lnTo>
                    <a:lnTo>
                      <a:pt x="460" y="373"/>
                    </a:lnTo>
                    <a:lnTo>
                      <a:pt x="458" y="373"/>
                    </a:lnTo>
                    <a:lnTo>
                      <a:pt x="456" y="372"/>
                    </a:lnTo>
                    <a:lnTo>
                      <a:pt x="454" y="372"/>
                    </a:lnTo>
                    <a:lnTo>
                      <a:pt x="450" y="373"/>
                    </a:lnTo>
                    <a:lnTo>
                      <a:pt x="445" y="375"/>
                    </a:lnTo>
                    <a:lnTo>
                      <a:pt x="442" y="377"/>
                    </a:lnTo>
                    <a:lnTo>
                      <a:pt x="438" y="382"/>
                    </a:lnTo>
                    <a:lnTo>
                      <a:pt x="414" y="390"/>
                    </a:lnTo>
                    <a:lnTo>
                      <a:pt x="390" y="399"/>
                    </a:lnTo>
                    <a:lnTo>
                      <a:pt x="365" y="406"/>
                    </a:lnTo>
                    <a:lnTo>
                      <a:pt x="341" y="414"/>
                    </a:lnTo>
                    <a:lnTo>
                      <a:pt x="317" y="422"/>
                    </a:lnTo>
                    <a:lnTo>
                      <a:pt x="291" y="429"/>
                    </a:lnTo>
                    <a:lnTo>
                      <a:pt x="267" y="436"/>
                    </a:lnTo>
                    <a:lnTo>
                      <a:pt x="243" y="442"/>
                    </a:lnTo>
                    <a:lnTo>
                      <a:pt x="217" y="447"/>
                    </a:lnTo>
                    <a:lnTo>
                      <a:pt x="192" y="451"/>
                    </a:lnTo>
                    <a:lnTo>
                      <a:pt x="166" y="456"/>
                    </a:lnTo>
                    <a:lnTo>
                      <a:pt x="142" y="459"/>
                    </a:lnTo>
                    <a:lnTo>
                      <a:pt x="117" y="461"/>
                    </a:lnTo>
                    <a:lnTo>
                      <a:pt x="91" y="462"/>
                    </a:lnTo>
                    <a:lnTo>
                      <a:pt x="65" y="462"/>
                    </a:lnTo>
                    <a:lnTo>
                      <a:pt x="39" y="461"/>
                    </a:lnTo>
                    <a:lnTo>
                      <a:pt x="34" y="461"/>
                    </a:lnTo>
                    <a:lnTo>
                      <a:pt x="30" y="461"/>
                    </a:lnTo>
                    <a:lnTo>
                      <a:pt x="25" y="462"/>
                    </a:lnTo>
                    <a:lnTo>
                      <a:pt x="20" y="463"/>
                    </a:lnTo>
                    <a:lnTo>
                      <a:pt x="15" y="465"/>
                    </a:lnTo>
                    <a:lnTo>
                      <a:pt x="10" y="466"/>
                    </a:lnTo>
                    <a:lnTo>
                      <a:pt x="5" y="467"/>
                    </a:lnTo>
                    <a:lnTo>
                      <a:pt x="0" y="468"/>
                    </a:lnTo>
                    <a:lnTo>
                      <a:pt x="3" y="399"/>
                    </a:lnTo>
                    <a:lnTo>
                      <a:pt x="8" y="329"/>
                    </a:lnTo>
                    <a:lnTo>
                      <a:pt x="11" y="259"/>
                    </a:lnTo>
                    <a:lnTo>
                      <a:pt x="11" y="188"/>
                    </a:lnTo>
                    <a:lnTo>
                      <a:pt x="15" y="170"/>
                    </a:lnTo>
                    <a:lnTo>
                      <a:pt x="18" y="151"/>
                    </a:lnTo>
                    <a:lnTo>
                      <a:pt x="20" y="131"/>
                    </a:lnTo>
                    <a:lnTo>
                      <a:pt x="21" y="110"/>
                    </a:lnTo>
                    <a:lnTo>
                      <a:pt x="26" y="110"/>
                    </a:lnTo>
                    <a:lnTo>
                      <a:pt x="30" y="110"/>
                    </a:lnTo>
                    <a:lnTo>
                      <a:pt x="34" y="110"/>
                    </a:lnTo>
                    <a:lnTo>
                      <a:pt x="38" y="110"/>
                    </a:lnTo>
                    <a:lnTo>
                      <a:pt x="43" y="110"/>
                    </a:lnTo>
                    <a:lnTo>
                      <a:pt x="47" y="110"/>
                    </a:lnTo>
                    <a:lnTo>
                      <a:pt x="51" y="110"/>
                    </a:lnTo>
                    <a:lnTo>
                      <a:pt x="55" y="110"/>
                    </a:lnTo>
                    <a:lnTo>
                      <a:pt x="85" y="106"/>
                    </a:lnTo>
                    <a:lnTo>
                      <a:pt x="87" y="105"/>
                    </a:lnTo>
                    <a:lnTo>
                      <a:pt x="89" y="103"/>
                    </a:lnTo>
                    <a:lnTo>
                      <a:pt x="90" y="101"/>
                    </a:lnTo>
                    <a:lnTo>
                      <a:pt x="91" y="98"/>
                    </a:lnTo>
                    <a:lnTo>
                      <a:pt x="91" y="92"/>
                    </a:lnTo>
                    <a:lnTo>
                      <a:pt x="91" y="77"/>
                    </a:lnTo>
                    <a:lnTo>
                      <a:pt x="91" y="53"/>
                    </a:lnTo>
                    <a:lnTo>
                      <a:pt x="91" y="25"/>
                    </a:lnTo>
                    <a:lnTo>
                      <a:pt x="105" y="24"/>
                    </a:lnTo>
                    <a:lnTo>
                      <a:pt x="119" y="24"/>
                    </a:lnTo>
                    <a:lnTo>
                      <a:pt x="132" y="23"/>
                    </a:lnTo>
                    <a:lnTo>
                      <a:pt x="146" y="21"/>
                    </a:lnTo>
                    <a:lnTo>
                      <a:pt x="160" y="20"/>
                    </a:lnTo>
                    <a:lnTo>
                      <a:pt x="174" y="19"/>
                    </a:lnTo>
                    <a:lnTo>
                      <a:pt x="188" y="18"/>
                    </a:lnTo>
                    <a:lnTo>
                      <a:pt x="201" y="17"/>
                    </a:lnTo>
                    <a:lnTo>
                      <a:pt x="215" y="16"/>
                    </a:lnTo>
                    <a:lnTo>
                      <a:pt x="229" y="15"/>
                    </a:lnTo>
                    <a:lnTo>
                      <a:pt x="243" y="13"/>
                    </a:lnTo>
                    <a:lnTo>
                      <a:pt x="256" y="12"/>
                    </a:lnTo>
                    <a:lnTo>
                      <a:pt x="270" y="10"/>
                    </a:lnTo>
                    <a:lnTo>
                      <a:pt x="284" y="8"/>
                    </a:lnTo>
                    <a:lnTo>
                      <a:pt x="298" y="5"/>
                    </a:lnTo>
                    <a:lnTo>
                      <a:pt x="311" y="2"/>
                    </a:lnTo>
                    <a:lnTo>
                      <a:pt x="312" y="2"/>
                    </a:lnTo>
                    <a:lnTo>
                      <a:pt x="313" y="1"/>
                    </a:lnTo>
                    <a:lnTo>
                      <a:pt x="315" y="1"/>
                    </a:lnTo>
                    <a:lnTo>
                      <a:pt x="316" y="0"/>
                    </a:lnTo>
                    <a:lnTo>
                      <a:pt x="321" y="11"/>
                    </a:lnTo>
                    <a:lnTo>
                      <a:pt x="325" y="23"/>
                    </a:lnTo>
                    <a:lnTo>
                      <a:pt x="330" y="33"/>
                    </a:lnTo>
                    <a:lnTo>
                      <a:pt x="336" y="44"/>
                    </a:lnTo>
                    <a:lnTo>
                      <a:pt x="338" y="48"/>
                    </a:lnTo>
                    <a:lnTo>
                      <a:pt x="339" y="50"/>
                    </a:lnTo>
                    <a:lnTo>
                      <a:pt x="340" y="51"/>
                    </a:lnTo>
                    <a:lnTo>
                      <a:pt x="341" y="52"/>
                    </a:lnTo>
                    <a:lnTo>
                      <a:pt x="343" y="53"/>
                    </a:lnTo>
                    <a:lnTo>
                      <a:pt x="352" y="55"/>
                    </a:lnTo>
                    <a:lnTo>
                      <a:pt x="353" y="56"/>
                    </a:lnTo>
                    <a:lnTo>
                      <a:pt x="354" y="56"/>
                    </a:lnTo>
                    <a:lnTo>
                      <a:pt x="355" y="56"/>
                    </a:lnTo>
                    <a:lnTo>
                      <a:pt x="356" y="56"/>
                    </a:lnTo>
                    <a:lnTo>
                      <a:pt x="362" y="54"/>
                    </a:lnTo>
                    <a:lnTo>
                      <a:pt x="367" y="53"/>
                    </a:lnTo>
                    <a:lnTo>
                      <a:pt x="373" y="51"/>
                    </a:lnTo>
                    <a:lnTo>
                      <a:pt x="377" y="50"/>
                    </a:lnTo>
                    <a:lnTo>
                      <a:pt x="382" y="48"/>
                    </a:lnTo>
                    <a:lnTo>
                      <a:pt x="386" y="46"/>
                    </a:lnTo>
                    <a:lnTo>
                      <a:pt x="392" y="44"/>
                    </a:lnTo>
                    <a:lnTo>
                      <a:pt x="396" y="42"/>
                    </a:lnTo>
                    <a:lnTo>
                      <a:pt x="400" y="38"/>
                    </a:lnTo>
                    <a:lnTo>
                      <a:pt x="416" y="78"/>
                    </a:lnTo>
                    <a:lnTo>
                      <a:pt x="433" y="117"/>
                    </a:lnTo>
                    <a:lnTo>
                      <a:pt x="448" y="156"/>
                    </a:lnTo>
                    <a:lnTo>
                      <a:pt x="464" y="194"/>
                    </a:lnTo>
                    <a:lnTo>
                      <a:pt x="480" y="231"/>
                    </a:lnTo>
                    <a:lnTo>
                      <a:pt x="494" y="267"/>
                    </a:lnTo>
                    <a:lnTo>
                      <a:pt x="509" y="302"/>
                    </a:lnTo>
                    <a:lnTo>
                      <a:pt x="523" y="335"/>
                    </a:lnTo>
                    <a:lnTo>
                      <a:pt x="526" y="3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Freeform 25"/>
              <p:cNvSpPr/>
              <p:nvPr/>
            </p:nvSpPr>
            <p:spPr>
              <a:xfrm>
                <a:off x="3728880" y="1990440"/>
                <a:ext cx="234000" cy="101520"/>
              </a:xfrm>
              <a:custGeom>
                <a:avLst/>
                <a:gdLst>
                  <a:gd name="textAreaLeft" fmla="*/ 0 w 234000"/>
                  <a:gd name="textAreaRight" fmla="*/ 234360 w 23400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241" h="97">
                    <a:moveTo>
                      <a:pt x="235" y="92"/>
                    </a:moveTo>
                    <a:lnTo>
                      <a:pt x="238" y="91"/>
                    </a:lnTo>
                    <a:lnTo>
                      <a:pt x="240" y="88"/>
                    </a:lnTo>
                    <a:lnTo>
                      <a:pt x="241" y="85"/>
                    </a:lnTo>
                    <a:lnTo>
                      <a:pt x="241" y="82"/>
                    </a:lnTo>
                    <a:lnTo>
                      <a:pt x="239" y="79"/>
                    </a:lnTo>
                    <a:lnTo>
                      <a:pt x="236" y="76"/>
                    </a:lnTo>
                    <a:lnTo>
                      <a:pt x="233" y="75"/>
                    </a:lnTo>
                    <a:lnTo>
                      <a:pt x="229" y="75"/>
                    </a:lnTo>
                    <a:lnTo>
                      <a:pt x="215" y="77"/>
                    </a:lnTo>
                    <a:lnTo>
                      <a:pt x="200" y="79"/>
                    </a:lnTo>
                    <a:lnTo>
                      <a:pt x="185" y="79"/>
                    </a:lnTo>
                    <a:lnTo>
                      <a:pt x="170" y="79"/>
                    </a:lnTo>
                    <a:lnTo>
                      <a:pt x="155" y="77"/>
                    </a:lnTo>
                    <a:lnTo>
                      <a:pt x="140" y="75"/>
                    </a:lnTo>
                    <a:lnTo>
                      <a:pt x="126" y="72"/>
                    </a:lnTo>
                    <a:lnTo>
                      <a:pt x="112" y="69"/>
                    </a:lnTo>
                    <a:lnTo>
                      <a:pt x="98" y="64"/>
                    </a:lnTo>
                    <a:lnTo>
                      <a:pt x="84" y="58"/>
                    </a:lnTo>
                    <a:lnTo>
                      <a:pt x="71" y="52"/>
                    </a:lnTo>
                    <a:lnTo>
                      <a:pt x="58" y="44"/>
                    </a:lnTo>
                    <a:lnTo>
                      <a:pt x="46" y="35"/>
                    </a:lnTo>
                    <a:lnTo>
                      <a:pt x="36" y="26"/>
                    </a:lnTo>
                    <a:lnTo>
                      <a:pt x="25" y="15"/>
                    </a:lnTo>
                    <a:lnTo>
                      <a:pt x="16" y="3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4" y="2"/>
                    </a:lnTo>
                    <a:lnTo>
                      <a:pt x="2" y="5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2" y="15"/>
                    </a:lnTo>
                    <a:lnTo>
                      <a:pt x="12" y="28"/>
                    </a:lnTo>
                    <a:lnTo>
                      <a:pt x="23" y="39"/>
                    </a:lnTo>
                    <a:lnTo>
                      <a:pt x="36" y="50"/>
                    </a:lnTo>
                    <a:lnTo>
                      <a:pt x="48" y="59"/>
                    </a:lnTo>
                    <a:lnTo>
                      <a:pt x="62" y="67"/>
                    </a:lnTo>
                    <a:lnTo>
                      <a:pt x="77" y="74"/>
                    </a:lnTo>
                    <a:lnTo>
                      <a:pt x="92" y="81"/>
                    </a:lnTo>
                    <a:lnTo>
                      <a:pt x="107" y="86"/>
                    </a:lnTo>
                    <a:lnTo>
                      <a:pt x="122" y="90"/>
                    </a:lnTo>
                    <a:lnTo>
                      <a:pt x="138" y="93"/>
                    </a:lnTo>
                    <a:lnTo>
                      <a:pt x="154" y="95"/>
                    </a:lnTo>
                    <a:lnTo>
                      <a:pt x="171" y="97"/>
                    </a:lnTo>
                    <a:lnTo>
                      <a:pt x="187" y="97"/>
                    </a:lnTo>
                    <a:lnTo>
                      <a:pt x="203" y="97"/>
                    </a:lnTo>
                    <a:lnTo>
                      <a:pt x="219" y="94"/>
                    </a:lnTo>
                    <a:lnTo>
                      <a:pt x="235" y="92"/>
                    </a:lnTo>
                    <a:close/>
                  </a:path>
                </a:pathLst>
              </a:custGeom>
              <a:solidFill>
                <a:srgbClr val="0700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Freeform 26"/>
              <p:cNvSpPr/>
              <p:nvPr/>
            </p:nvSpPr>
            <p:spPr>
              <a:xfrm>
                <a:off x="3820320" y="2489040"/>
                <a:ext cx="230760" cy="173880"/>
              </a:xfrm>
              <a:custGeom>
                <a:avLst/>
                <a:gdLst>
                  <a:gd name="textAreaLeft" fmla="*/ 0 w 230760"/>
                  <a:gd name="textAreaRight" fmla="*/ 231120 w 230760"/>
                  <a:gd name="textAreaTop" fmla="*/ 0 h 173880"/>
                  <a:gd name="textAreaBottom" fmla="*/ 174240 h 173880"/>
                </a:gdLst>
                <a:ahLst/>
                <a:rect l="textAreaLeft" t="textAreaTop" r="textAreaRight" b="textAreaBottom"/>
                <a:pathLst>
                  <a:path w="238" h="166">
                    <a:moveTo>
                      <a:pt x="234" y="98"/>
                    </a:moveTo>
                    <a:lnTo>
                      <a:pt x="230" y="88"/>
                    </a:lnTo>
                    <a:lnTo>
                      <a:pt x="225" y="78"/>
                    </a:lnTo>
                    <a:lnTo>
                      <a:pt x="221" y="69"/>
                    </a:lnTo>
                    <a:lnTo>
                      <a:pt x="216" y="58"/>
                    </a:lnTo>
                    <a:lnTo>
                      <a:pt x="211" y="48"/>
                    </a:lnTo>
                    <a:lnTo>
                      <a:pt x="206" y="39"/>
                    </a:lnTo>
                    <a:lnTo>
                      <a:pt x="203" y="28"/>
                    </a:lnTo>
                    <a:lnTo>
                      <a:pt x="200" y="18"/>
                    </a:lnTo>
                    <a:lnTo>
                      <a:pt x="198" y="7"/>
                    </a:lnTo>
                    <a:lnTo>
                      <a:pt x="197" y="5"/>
                    </a:lnTo>
                    <a:lnTo>
                      <a:pt x="195" y="3"/>
                    </a:lnTo>
                    <a:lnTo>
                      <a:pt x="193" y="2"/>
                    </a:lnTo>
                    <a:lnTo>
                      <a:pt x="189" y="1"/>
                    </a:lnTo>
                    <a:lnTo>
                      <a:pt x="182" y="0"/>
                    </a:lnTo>
                    <a:lnTo>
                      <a:pt x="161" y="5"/>
                    </a:lnTo>
                    <a:lnTo>
                      <a:pt x="141" y="10"/>
                    </a:lnTo>
                    <a:lnTo>
                      <a:pt x="119" y="16"/>
                    </a:lnTo>
                    <a:lnTo>
                      <a:pt x="99" y="21"/>
                    </a:lnTo>
                    <a:lnTo>
                      <a:pt x="78" y="26"/>
                    </a:lnTo>
                    <a:lnTo>
                      <a:pt x="58" y="31"/>
                    </a:lnTo>
                    <a:lnTo>
                      <a:pt x="37" y="36"/>
                    </a:lnTo>
                    <a:lnTo>
                      <a:pt x="16" y="39"/>
                    </a:lnTo>
                    <a:lnTo>
                      <a:pt x="15" y="40"/>
                    </a:lnTo>
                    <a:lnTo>
                      <a:pt x="13" y="41"/>
                    </a:lnTo>
                    <a:lnTo>
                      <a:pt x="12" y="42"/>
                    </a:lnTo>
                    <a:lnTo>
                      <a:pt x="10" y="43"/>
                    </a:lnTo>
                    <a:lnTo>
                      <a:pt x="9" y="43"/>
                    </a:lnTo>
                    <a:lnTo>
                      <a:pt x="5" y="44"/>
                    </a:lnTo>
                    <a:lnTo>
                      <a:pt x="3" y="45"/>
                    </a:lnTo>
                    <a:lnTo>
                      <a:pt x="1" y="48"/>
                    </a:lnTo>
                    <a:lnTo>
                      <a:pt x="0" y="52"/>
                    </a:lnTo>
                    <a:lnTo>
                      <a:pt x="0" y="78"/>
                    </a:lnTo>
                    <a:lnTo>
                      <a:pt x="4" y="103"/>
                    </a:lnTo>
                    <a:lnTo>
                      <a:pt x="10" y="129"/>
                    </a:lnTo>
                    <a:lnTo>
                      <a:pt x="21" y="153"/>
                    </a:lnTo>
                    <a:lnTo>
                      <a:pt x="23" y="159"/>
                    </a:lnTo>
                    <a:lnTo>
                      <a:pt x="24" y="161"/>
                    </a:lnTo>
                    <a:lnTo>
                      <a:pt x="25" y="162"/>
                    </a:lnTo>
                    <a:lnTo>
                      <a:pt x="27" y="163"/>
                    </a:lnTo>
                    <a:lnTo>
                      <a:pt x="28" y="164"/>
                    </a:lnTo>
                    <a:lnTo>
                      <a:pt x="37" y="166"/>
                    </a:lnTo>
                    <a:lnTo>
                      <a:pt x="49" y="165"/>
                    </a:lnTo>
                    <a:lnTo>
                      <a:pt x="61" y="163"/>
                    </a:lnTo>
                    <a:lnTo>
                      <a:pt x="73" y="162"/>
                    </a:lnTo>
                    <a:lnTo>
                      <a:pt x="85" y="160"/>
                    </a:lnTo>
                    <a:lnTo>
                      <a:pt x="97" y="159"/>
                    </a:lnTo>
                    <a:lnTo>
                      <a:pt x="109" y="157"/>
                    </a:lnTo>
                    <a:lnTo>
                      <a:pt x="121" y="155"/>
                    </a:lnTo>
                    <a:lnTo>
                      <a:pt x="132" y="153"/>
                    </a:lnTo>
                    <a:lnTo>
                      <a:pt x="145" y="151"/>
                    </a:lnTo>
                    <a:lnTo>
                      <a:pt x="157" y="149"/>
                    </a:lnTo>
                    <a:lnTo>
                      <a:pt x="168" y="146"/>
                    </a:lnTo>
                    <a:lnTo>
                      <a:pt x="180" y="143"/>
                    </a:lnTo>
                    <a:lnTo>
                      <a:pt x="190" y="139"/>
                    </a:lnTo>
                    <a:lnTo>
                      <a:pt x="202" y="135"/>
                    </a:lnTo>
                    <a:lnTo>
                      <a:pt x="214" y="131"/>
                    </a:lnTo>
                    <a:lnTo>
                      <a:pt x="224" y="126"/>
                    </a:lnTo>
                    <a:lnTo>
                      <a:pt x="227" y="126"/>
                    </a:lnTo>
                    <a:lnTo>
                      <a:pt x="230" y="125"/>
                    </a:lnTo>
                    <a:lnTo>
                      <a:pt x="232" y="124"/>
                    </a:lnTo>
                    <a:lnTo>
                      <a:pt x="233" y="123"/>
                    </a:lnTo>
                    <a:lnTo>
                      <a:pt x="234" y="120"/>
                    </a:lnTo>
                    <a:lnTo>
                      <a:pt x="237" y="115"/>
                    </a:lnTo>
                    <a:lnTo>
                      <a:pt x="238" y="113"/>
                    </a:lnTo>
                    <a:lnTo>
                      <a:pt x="238" y="112"/>
                    </a:lnTo>
                    <a:lnTo>
                      <a:pt x="238" y="110"/>
                    </a:lnTo>
                    <a:lnTo>
                      <a:pt x="237" y="108"/>
                    </a:lnTo>
                    <a:lnTo>
                      <a:pt x="234" y="98"/>
                    </a:lnTo>
                    <a:close/>
                  </a:path>
                </a:pathLst>
              </a:custGeom>
              <a:solidFill>
                <a:srgbClr val="0700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Freeform 27"/>
              <p:cNvSpPr/>
              <p:nvPr/>
            </p:nvSpPr>
            <p:spPr>
              <a:xfrm>
                <a:off x="3837960" y="2507760"/>
                <a:ext cx="194760" cy="13608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36080"/>
                  <a:gd name="textAreaBottom" fmla="*/ 136440 h 136080"/>
                </a:gdLst>
                <a:ahLst/>
                <a:rect l="textAreaLeft" t="textAreaTop" r="textAreaRight" b="textAreaBottom"/>
                <a:pathLst>
                  <a:path w="201" h="130">
                    <a:moveTo>
                      <a:pt x="31" y="130"/>
                    </a:moveTo>
                    <a:lnTo>
                      <a:pt x="19" y="129"/>
                    </a:lnTo>
                    <a:lnTo>
                      <a:pt x="17" y="124"/>
                    </a:lnTo>
                    <a:lnTo>
                      <a:pt x="8" y="103"/>
                    </a:lnTo>
                    <a:lnTo>
                      <a:pt x="3" y="82"/>
                    </a:lnTo>
                    <a:lnTo>
                      <a:pt x="0" y="60"/>
                    </a:lnTo>
                    <a:lnTo>
                      <a:pt x="0" y="38"/>
                    </a:lnTo>
                    <a:lnTo>
                      <a:pt x="1" y="38"/>
                    </a:lnTo>
                    <a:lnTo>
                      <a:pt x="2" y="38"/>
                    </a:lnTo>
                    <a:lnTo>
                      <a:pt x="3" y="38"/>
                    </a:lnTo>
                    <a:lnTo>
                      <a:pt x="22" y="34"/>
                    </a:lnTo>
                    <a:lnTo>
                      <a:pt x="42" y="30"/>
                    </a:lnTo>
                    <a:lnTo>
                      <a:pt x="61" y="26"/>
                    </a:lnTo>
                    <a:lnTo>
                      <a:pt x="80" y="22"/>
                    </a:lnTo>
                    <a:lnTo>
                      <a:pt x="100" y="17"/>
                    </a:lnTo>
                    <a:lnTo>
                      <a:pt x="119" y="11"/>
                    </a:lnTo>
                    <a:lnTo>
                      <a:pt x="139" y="6"/>
                    </a:lnTo>
                    <a:lnTo>
                      <a:pt x="158" y="0"/>
                    </a:lnTo>
                    <a:lnTo>
                      <a:pt x="164" y="0"/>
                    </a:lnTo>
                    <a:lnTo>
                      <a:pt x="165" y="5"/>
                    </a:lnTo>
                    <a:lnTo>
                      <a:pt x="170" y="24"/>
                    </a:lnTo>
                    <a:lnTo>
                      <a:pt x="179" y="42"/>
                    </a:lnTo>
                    <a:lnTo>
                      <a:pt x="187" y="59"/>
                    </a:lnTo>
                    <a:lnTo>
                      <a:pt x="196" y="76"/>
                    </a:lnTo>
                    <a:lnTo>
                      <a:pt x="201" y="91"/>
                    </a:lnTo>
                    <a:lnTo>
                      <a:pt x="193" y="93"/>
                    </a:lnTo>
                    <a:lnTo>
                      <a:pt x="173" y="102"/>
                    </a:lnTo>
                    <a:lnTo>
                      <a:pt x="153" y="109"/>
                    </a:lnTo>
                    <a:lnTo>
                      <a:pt x="133" y="114"/>
                    </a:lnTo>
                    <a:lnTo>
                      <a:pt x="113" y="117"/>
                    </a:lnTo>
                    <a:lnTo>
                      <a:pt x="92" y="120"/>
                    </a:lnTo>
                    <a:lnTo>
                      <a:pt x="72" y="123"/>
                    </a:lnTo>
                    <a:lnTo>
                      <a:pt x="51" y="126"/>
                    </a:lnTo>
                    <a:lnTo>
                      <a:pt x="31" y="1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Freeform 28"/>
              <p:cNvSpPr/>
              <p:nvPr/>
            </p:nvSpPr>
            <p:spPr>
              <a:xfrm>
                <a:off x="3771000" y="1895760"/>
                <a:ext cx="35640" cy="3780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7" h="36">
                    <a:moveTo>
                      <a:pt x="0" y="18"/>
                    </a:moveTo>
                    <a:lnTo>
                      <a:pt x="1" y="26"/>
                    </a:lnTo>
                    <a:lnTo>
                      <a:pt x="5" y="31"/>
                    </a:lnTo>
                    <a:lnTo>
                      <a:pt x="12" y="35"/>
                    </a:lnTo>
                    <a:lnTo>
                      <a:pt x="18" y="36"/>
                    </a:lnTo>
                    <a:lnTo>
                      <a:pt x="26" y="35"/>
                    </a:lnTo>
                    <a:lnTo>
                      <a:pt x="32" y="31"/>
                    </a:lnTo>
                    <a:lnTo>
                      <a:pt x="36" y="26"/>
                    </a:lnTo>
                    <a:lnTo>
                      <a:pt x="37" y="18"/>
                    </a:lnTo>
                    <a:lnTo>
                      <a:pt x="36" y="11"/>
                    </a:lnTo>
                    <a:lnTo>
                      <a:pt x="32" y="5"/>
                    </a:lnTo>
                    <a:lnTo>
                      <a:pt x="26" y="1"/>
                    </a:lnTo>
                    <a:lnTo>
                      <a:pt x="18" y="0"/>
                    </a:lnTo>
                    <a:lnTo>
                      <a:pt x="12" y="1"/>
                    </a:lnTo>
                    <a:lnTo>
                      <a:pt x="5" y="5"/>
                    </a:lnTo>
                    <a:lnTo>
                      <a:pt x="1" y="11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700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Freeform 29"/>
              <p:cNvSpPr/>
              <p:nvPr/>
            </p:nvSpPr>
            <p:spPr>
              <a:xfrm>
                <a:off x="3948480" y="1966320"/>
                <a:ext cx="35640" cy="3852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37" h="37">
                    <a:moveTo>
                      <a:pt x="0" y="19"/>
                    </a:moveTo>
                    <a:lnTo>
                      <a:pt x="1" y="25"/>
                    </a:lnTo>
                    <a:lnTo>
                      <a:pt x="5" y="32"/>
                    </a:lnTo>
                    <a:lnTo>
                      <a:pt x="12" y="36"/>
                    </a:lnTo>
                    <a:lnTo>
                      <a:pt x="19" y="37"/>
                    </a:lnTo>
                    <a:lnTo>
                      <a:pt x="27" y="36"/>
                    </a:lnTo>
                    <a:lnTo>
                      <a:pt x="32" y="32"/>
                    </a:lnTo>
                    <a:lnTo>
                      <a:pt x="36" y="25"/>
                    </a:lnTo>
                    <a:lnTo>
                      <a:pt x="37" y="19"/>
                    </a:lnTo>
                    <a:lnTo>
                      <a:pt x="36" y="12"/>
                    </a:lnTo>
                    <a:lnTo>
                      <a:pt x="32" y="5"/>
                    </a:lnTo>
                    <a:lnTo>
                      <a:pt x="27" y="1"/>
                    </a:lnTo>
                    <a:lnTo>
                      <a:pt x="19" y="0"/>
                    </a:lnTo>
                    <a:lnTo>
                      <a:pt x="12" y="1"/>
                    </a:lnTo>
                    <a:lnTo>
                      <a:pt x="5" y="5"/>
                    </a:lnTo>
                    <a:lnTo>
                      <a:pt x="1" y="12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700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Oval 30"/>
              <p:cNvSpPr/>
              <p:nvPr/>
            </p:nvSpPr>
            <p:spPr>
              <a:xfrm>
                <a:off x="3821400" y="2977920"/>
                <a:ext cx="978840" cy="201240"/>
              </a:xfrm>
              <a:prstGeom prst="ellipse">
                <a:avLst/>
              </a:prstGeom>
              <a:solidFill>
                <a:srgbClr val="000099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Oval 31"/>
              <p:cNvSpPr/>
              <p:nvPr/>
            </p:nvSpPr>
            <p:spPr>
              <a:xfrm>
                <a:off x="3867840" y="3129120"/>
                <a:ext cx="186120" cy="100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Oval 32"/>
              <p:cNvSpPr/>
              <p:nvPr/>
            </p:nvSpPr>
            <p:spPr>
              <a:xfrm>
                <a:off x="4147560" y="3078720"/>
                <a:ext cx="186120" cy="100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Freeform 33"/>
              <p:cNvSpPr/>
              <p:nvPr/>
            </p:nvSpPr>
            <p:spPr>
              <a:xfrm>
                <a:off x="3867840" y="3040920"/>
                <a:ext cx="57960" cy="13212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132120"/>
                  <a:gd name="textAreaBottom" fmla="*/ 132480 h 132120"/>
                </a:gdLst>
                <a:ahLst/>
                <a:rect l="textAreaLeft" t="textAreaTop" r="textAreaRight" b="textAreaBottom"/>
                <a:pathLst>
                  <a:path w="60" h="126">
                    <a:moveTo>
                      <a:pt x="0" y="0"/>
                    </a:moveTo>
                    <a:cubicBezTo>
                      <a:pt x="8" y="24"/>
                      <a:pt x="22" y="106"/>
                      <a:pt x="36" y="120"/>
                    </a:cubicBezTo>
                    <a:cubicBezTo>
                      <a:pt x="42" y="126"/>
                      <a:pt x="52" y="120"/>
                      <a:pt x="60" y="120"/>
                    </a:cubicBezTo>
                  </a:path>
                </a:pathLst>
              </a:custGeom>
              <a:noFill/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Freeform 34"/>
              <p:cNvSpPr/>
              <p:nvPr/>
            </p:nvSpPr>
            <p:spPr>
              <a:xfrm>
                <a:off x="4102920" y="2965320"/>
                <a:ext cx="137520" cy="113040"/>
              </a:xfrm>
              <a:custGeom>
                <a:avLst/>
                <a:gdLst>
                  <a:gd name="textAreaLeft" fmla="*/ 0 w 137520"/>
                  <a:gd name="textAreaRight" fmla="*/ 137880 w 137520"/>
                  <a:gd name="textAreaTop" fmla="*/ 0 h 113040"/>
                  <a:gd name="textAreaBottom" fmla="*/ 113400 h 113040"/>
                </a:gdLst>
                <a:ahLst/>
                <a:rect l="textAreaLeft" t="textAreaTop" r="textAreaRight" b="textAreaBottom"/>
                <a:pathLst>
                  <a:path w="142" h="108">
                    <a:moveTo>
                      <a:pt x="46" y="0"/>
                    </a:moveTo>
                    <a:cubicBezTo>
                      <a:pt x="45" y="1"/>
                      <a:pt x="0" y="62"/>
                      <a:pt x="10" y="72"/>
                    </a:cubicBezTo>
                    <a:cubicBezTo>
                      <a:pt x="30" y="92"/>
                      <a:pt x="106" y="108"/>
                      <a:pt x="142" y="108"/>
                    </a:cubicBezTo>
                  </a:path>
                </a:pathLst>
              </a:custGeom>
              <a:noFill/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AutoShape 35"/>
              <p:cNvSpPr/>
              <p:nvPr/>
            </p:nvSpPr>
            <p:spPr>
              <a:xfrm>
                <a:off x="3774600" y="2423520"/>
                <a:ext cx="279360" cy="201240"/>
              </a:xfrm>
              <a:custGeom>
                <a:avLst/>
                <a:gdLst>
                  <a:gd name="textAreaLeft" fmla="*/ 64800 w 279360"/>
                  <a:gd name="textAreaRight" fmla="*/ 214560 w 279360"/>
                  <a:gd name="textAreaTop" fmla="*/ 20880 h 201240"/>
                  <a:gd name="textAreaBottom" fmla="*/ 127800 h 201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000099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0" name="Freeform 36"/>
            <p:cNvSpPr/>
            <p:nvPr/>
          </p:nvSpPr>
          <p:spPr>
            <a:xfrm rot="20657400">
              <a:off x="2465280" y="723960"/>
              <a:ext cx="499680" cy="562320"/>
            </a:xfrm>
            <a:custGeom>
              <a:avLst/>
              <a:gdLst>
                <a:gd name="textAreaLeft" fmla="*/ 0 w 499680"/>
                <a:gd name="textAreaRight" fmla="*/ 500040 w 499680"/>
                <a:gd name="textAreaTop" fmla="*/ 0 h 562320"/>
                <a:gd name="textAreaBottom" fmla="*/ 562320 h 562320"/>
              </a:gdLst>
              <a:ahLst/>
              <a:rect l="textAreaLeft" t="textAreaTop" r="textAreaRight" b="textAreaBottom"/>
              <a:pathLst>
                <a:path w="596" h="627">
                  <a:moveTo>
                    <a:pt x="294" y="0"/>
                  </a:moveTo>
                  <a:lnTo>
                    <a:pt x="368" y="10"/>
                  </a:lnTo>
                  <a:lnTo>
                    <a:pt x="405" y="57"/>
                  </a:lnTo>
                  <a:lnTo>
                    <a:pt x="421" y="153"/>
                  </a:lnTo>
                  <a:lnTo>
                    <a:pt x="409" y="268"/>
                  </a:lnTo>
                  <a:lnTo>
                    <a:pt x="381" y="339"/>
                  </a:lnTo>
                  <a:lnTo>
                    <a:pt x="348" y="431"/>
                  </a:lnTo>
                  <a:lnTo>
                    <a:pt x="546" y="545"/>
                  </a:lnTo>
                  <a:lnTo>
                    <a:pt x="596" y="588"/>
                  </a:lnTo>
                  <a:lnTo>
                    <a:pt x="566" y="627"/>
                  </a:lnTo>
                  <a:lnTo>
                    <a:pt x="468" y="545"/>
                  </a:lnTo>
                  <a:lnTo>
                    <a:pt x="318" y="488"/>
                  </a:lnTo>
                  <a:lnTo>
                    <a:pt x="248" y="559"/>
                  </a:lnTo>
                  <a:lnTo>
                    <a:pt x="174" y="612"/>
                  </a:lnTo>
                  <a:lnTo>
                    <a:pt x="111" y="617"/>
                  </a:lnTo>
                  <a:lnTo>
                    <a:pt x="49" y="612"/>
                  </a:lnTo>
                  <a:lnTo>
                    <a:pt x="21" y="569"/>
                  </a:lnTo>
                  <a:lnTo>
                    <a:pt x="0" y="474"/>
                  </a:lnTo>
                  <a:lnTo>
                    <a:pt x="0" y="368"/>
                  </a:lnTo>
                  <a:lnTo>
                    <a:pt x="24" y="287"/>
                  </a:lnTo>
                  <a:lnTo>
                    <a:pt x="107" y="157"/>
                  </a:lnTo>
                  <a:lnTo>
                    <a:pt x="199" y="72"/>
                  </a:lnTo>
                  <a:lnTo>
                    <a:pt x="261" y="24"/>
                  </a:lnTo>
                  <a:lnTo>
                    <a:pt x="318" y="10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wipe dir="d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ch komme mit dem Bus.  Question needed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4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ie kommst du zur Schule?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4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5"/>
          <p:cNvSpPr/>
          <p:nvPr/>
        </p:nvSpPr>
        <p:spPr>
          <a:xfrm>
            <a:off x="475200" y="2712960"/>
            <a:ext cx="8195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ie kommt aus Liechtenstein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(Question needed)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5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oher kommt sie?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5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4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Picture 3" descr="C:\Program Files\Microsoft Office\MEDIA\CAGCAT10\j0216858.wmf"/>
          <p:cNvPicPr/>
          <p:nvPr/>
        </p:nvPicPr>
        <p:blipFill>
          <a:blip r:embed="rId2"/>
          <a:stretch/>
        </p:blipFill>
        <p:spPr>
          <a:xfrm>
            <a:off x="4952880" y="1001880"/>
            <a:ext cx="2971800" cy="1355400"/>
          </a:xfrm>
          <a:prstGeom prst="rect">
            <a:avLst/>
          </a:prstGeom>
          <a:ln w="0">
            <a:noFill/>
          </a:ln>
        </p:spPr>
      </p:pic>
      <p:sp>
        <p:nvSpPr>
          <p:cNvPr id="283" name="TextBox 5"/>
          <p:cNvSpPr/>
          <p:nvPr/>
        </p:nvSpPr>
        <p:spPr>
          <a:xfrm>
            <a:off x="1676520" y="15238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Picture 3" descr="C:\Users\ahart\AppData\Local\Microsoft\Windows\Temporary Internet Files\Content.IE5\RLJ93M35\MC900326658[1].wmf"/>
          <p:cNvPicPr/>
          <p:nvPr/>
        </p:nvPicPr>
        <p:blipFill>
          <a:blip r:embed="rId3"/>
          <a:stretch/>
        </p:blipFill>
        <p:spPr>
          <a:xfrm>
            <a:off x="5715000" y="2895480"/>
            <a:ext cx="2603520" cy="25909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r>
              <a:rPr b="1" i="1" lang="en-US" sz="6000" spc="-1" strike="noStrike" u="sng">
                <a:solidFill>
                  <a:srgbClr val="86d1ec"/>
                </a:solidFill>
                <a:uFillTx/>
                <a:latin typeface="SCHOOLBOY"/>
                <a:hlinkClick r:id="rId1" action="ppaction://hlinksldjump"/>
              </a:rPr>
              <a:t>500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Picture 3" descr="C:\Users\ahart\AppData\Local\Microsoft\Windows\Temporary Internet Files\Content.IE5\RCWSW6HJ\MC900150076[1].wmf"/>
          <p:cNvPicPr/>
          <p:nvPr/>
        </p:nvPicPr>
        <p:blipFill>
          <a:blip r:embed="rId2"/>
          <a:stretch/>
        </p:blipFill>
        <p:spPr>
          <a:xfrm>
            <a:off x="4876920" y="1066680"/>
            <a:ext cx="2989080" cy="239256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5"/>
          <p:cNvSpPr/>
          <p:nvPr/>
        </p:nvSpPr>
        <p:spPr>
          <a:xfrm>
            <a:off x="402840" y="1752480"/>
            <a:ext cx="424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ara und Christ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ut this information into a sentence: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imon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ut this information into a sentence: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4 </a:t>
            </a:r>
            <a:br>
              <a:rPr sz="4400"/>
            </a:b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2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7T00:29:24Z</dcterms:created>
  <dc:creator>Mike Jackson</dc:creator>
  <dc:description/>
  <dc:language>en-US</dc:language>
  <cp:lastModifiedBy>temp</cp:lastModifiedBy>
  <dcterms:modified xsi:type="dcterms:W3CDTF">2013-11-21T20:22:08Z</dcterms:modified>
  <cp:revision>46</cp:revision>
  <dc:subject/>
  <dc:title>PowerPoint Presentation</dc:title>
</cp:coreProperties>
</file>